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246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media/image24.png" ContentType="image/png"/>
  <Override PartName="/ppt/media/image27.png" ContentType="image/png"/>
  <Override PartName="/ppt/media/image29.png" ContentType="image/png"/>
  <Override PartName="/ppt/media/image6.png" ContentType="image/png"/>
  <Override PartName="/ppt/media/image3.png" ContentType="image/png"/>
  <Override PartName="/ppt/media/image26.png" ContentType="image/png"/>
  <Override PartName="/ppt/media/image20.png" ContentType="image/png"/>
  <Override PartName="/ppt/media/image18.png" ContentType="image/png"/>
  <Override PartName="/ppt/media/image4.png" ContentType="image/png"/>
  <Override PartName="/ppt/media/image12.jpeg" ContentType="image/jpeg"/>
  <Override PartName="/ppt/media/image13.png" ContentType="image/png"/>
  <Override PartName="/ppt/media/image11.png" ContentType="image/png"/>
  <Override PartName="/ppt/media/image8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7.jpeg" ContentType="image/jpeg"/>
  <Override PartName="/ppt/media/image28.png" ContentType="image/png"/>
  <Override PartName="/ppt/media/image2.png" ContentType="image/png"/>
  <Override PartName="/ppt/media/image25.png" ContentType="image/png"/>
  <Override PartName="/ppt/media/image10.png" ContentType="image/png"/>
  <Override PartName="/ppt/media/image1.jpeg" ContentType="image/jpeg"/>
  <Override PartName="/ppt/media/image14.png" ContentType="image/png"/>
  <Override PartName="/ppt/media/image15.jpeg" ContentType="image/jpe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</p:sldMasterIdLst>
  <p:notesMasterIdLst>
    <p:notesMasterId r:id="rId28"/>
  </p:notesMasterIdLst>
  <p:sldIdLst>
    <p:sldId id="256" r:id="rId29"/>
    <p:sldId id="257" r:id="rId30"/>
    <p:sldId id="258" r:id="rId31"/>
    <p:sldId id="259" r:id="rId32"/>
    <p:sldId id="260" r:id="rId33"/>
    <p:sldId id="261" r:id="rId34"/>
    <p:sldId id="262" r:id="rId35"/>
    <p:sldId id="263" r:id="rId36"/>
    <p:sldId id="264" r:id="rId37"/>
    <p:sldId id="265" r:id="rId38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notesMaster" Target="notesMasters/notesMaster1.xml"/><Relationship Id="rId29" Type="http://schemas.openxmlformats.org/officeDocument/2006/relationships/slide" Target="slides/slide1.xml"/><Relationship Id="rId30" Type="http://schemas.openxmlformats.org/officeDocument/2006/relationships/slide" Target="slides/slide2.xml"/><Relationship Id="rId31" Type="http://schemas.openxmlformats.org/officeDocument/2006/relationships/slide" Target="slides/slide3.xml"/><Relationship Id="rId32" Type="http://schemas.openxmlformats.org/officeDocument/2006/relationships/slide" Target="slides/slide4.xml"/><Relationship Id="rId33" Type="http://schemas.openxmlformats.org/officeDocument/2006/relationships/slide" Target="slides/slide5.xml"/><Relationship Id="rId34" Type="http://schemas.openxmlformats.org/officeDocument/2006/relationships/slide" Target="slides/slide6.xml"/><Relationship Id="rId35" Type="http://schemas.openxmlformats.org/officeDocument/2006/relationships/slide" Target="slides/slide7.xml"/><Relationship Id="rId36" Type="http://schemas.openxmlformats.org/officeDocument/2006/relationships/slide" Target="slides/slide8.xml"/><Relationship Id="rId37" Type="http://schemas.openxmlformats.org/officeDocument/2006/relationships/slide" Target="slides/slide9.xml"/><Relationship Id="rId38" Type="http://schemas.openxmlformats.org/officeDocument/2006/relationships/slide" Target="slides/slide10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 type="dt" idx="79"/>
          </p:nvPr>
        </p:nvSpPr>
        <p:spPr>
          <a:xfrm>
            <a:off x="3884400" y="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 type="sldImg"/>
          </p:nvPr>
        </p:nvSpPr>
        <p:spPr>
          <a:xfrm>
            <a:off x="685800" y="1142640"/>
            <a:ext cx="5486400" cy="308628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等线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 type="ftr" idx="80"/>
          </p:nvPr>
        </p:nvSpPr>
        <p:spPr>
          <a:xfrm>
            <a:off x="-3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 type="sldNum" idx="81"/>
          </p:nvPr>
        </p:nvSpPr>
        <p:spPr>
          <a:xfrm>
            <a:off x="388440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等线"/>
                <a:ea typeface="等线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AB8A21-A8C6-42F6-9412-00430A6651A0}" type="slidenum">
              <a:rPr b="0" lang="zh-CN" sz="1200" spc="-1" strike="noStrike">
                <a:solidFill>
                  <a:srgbClr val="000000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sldImg"/>
          </p:nvPr>
        </p:nvSpPr>
        <p:spPr>
          <a:xfrm>
            <a:off x="685800" y="1143000"/>
            <a:ext cx="5486400" cy="3086280"/>
          </a:xfrm>
          <a:prstGeom prst="rect">
            <a:avLst/>
          </a:prstGeom>
          <a:ln w="0">
            <a:noFill/>
          </a:ln>
        </p:spPr>
      </p:sp>
      <p:sp>
        <p:nvSpPr>
          <p:cNvPr id="124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250" name="灯片编号占位符 3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67482-79EF-4BCE-AFB5-FF39F437264A}" type="slidenum">
              <a:rPr b="0" lang="zh-CN" sz="1200" spc="-1" strike="noStrike">
                <a:solidFill>
                  <a:srgbClr val="ffffff"/>
                </a:solidFill>
                <a:latin typeface="等线"/>
                <a:ea typeface="等线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719B-5B84-427D-9DC4-66055471DB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1CDB-07FA-4CC2-A752-6B8E156DFC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4F937EC-B222-4C9A-B091-688C21CE30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FD0E20C-132E-44A7-9EDB-D6AE66487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E9CA22-84D4-40EC-8168-67A020723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BDF9C-ED38-4D23-9DEE-3014A464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6CC3AB-EB5B-4B65-ABF9-38C26B19F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84458F-845B-482A-8C1C-DB4E3F139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9EAA9B-20B0-4FE4-8163-2B63E7697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C611B0-B821-476D-B970-71CA1E88E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AEDE04-6EA0-47AF-AB06-133B17E95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F81EAA-1E99-4E93-B306-011B17FC63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A8D02-2CB2-4B79-BF0C-C53198B313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2E7C99A-EC24-434C-83A8-EEA058FF9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23CB0E-2E09-48A6-9519-FB4AB20B4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009CFE8-7262-4441-BAD9-1B29EAD13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002417-4173-42A8-AF5F-C8979B38F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76A0D74-0000-4255-9F27-876C4FE46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4947DE-AA0F-4D5C-AA5D-19F762010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4B077D-BC90-4117-86B4-3ED3DC51C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D23D60-F139-4234-8CA7-A7C7B4AD9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C79B9B-2EDD-4F36-A9F8-03F1CA511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27D021-7FEF-4283-B711-3D6E2E2146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2D511-E45C-430E-990B-BF6E722F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16F81A-8FE3-42DB-AFEC-C8B0D4347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59797E5-7712-41AF-A26C-3F42905041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B198A36-40A8-4CF3-96AA-653C4A2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1B0F7DA-3F47-4761-A51B-9870CC98D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9D3FB16-3880-41A2-9F94-69905E6F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1835D34-C2A2-40F1-8A55-C5F0801D0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E9E14F-35F0-4C5B-AC03-3B38CDA2E9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329A2B0-C340-4E5C-A2FF-71DC0151A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14EFD-F2EA-4199-984C-4C78C11F4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FABB669-DFAB-4051-A6E0-0AA4D2ACD8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89253-A9F8-4A9C-8204-4BD16C8F30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7D1CF7-E097-4587-9318-88D69E688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D7CBD7-906A-4581-A1A9-64A0C7242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788A761-CE2A-4463-9777-3D7160AA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4ACF56-0526-484E-8587-2FAA5DC17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DF8338-4211-4F0C-B640-EBBC431D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61F887-9453-4786-A663-202D92CAC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F0E81E3-7358-45AA-92C6-5D11E8980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70D08A-8BBE-4BAB-9C41-279E1FDE98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1545B15-B52F-446F-812B-C4057CE54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2E5E70A-9239-4B97-B034-EFAE8987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B7EA9-6DA1-4C50-B71C-766B9816C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587906-7820-4184-880F-4FBCC0601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84528F-4441-48B7-8BB6-1C6D83F35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CB7CAC4-A050-4E10-9499-C4935DFAA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120D27F-F460-4B95-B4AA-719C7865CE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6141F7-4FFD-49E2-8EBF-B1F0D85F23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E785ECA-7786-4019-B3BF-33EEBE0C4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E490156-16E8-4DEA-AC72-DA21DA70A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2B5770D-E23B-4118-9138-F0BDB04DB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4D18A09-4D8C-4085-8277-57B875419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4BD61E-5D37-48E2-8ABF-BBBBFA8D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9D942-BC17-48AA-B6B9-4F2E43E769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5CA20F-2D96-4BD3-B09B-F774C1483A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F240F18-CF7D-4EA3-8479-853D4E675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BE1CB8A-446B-43D5-94F7-EBC2A6CEA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A4E0BA3-44D1-49CC-9F23-F20824060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28AD10-D46B-41E4-BE29-2102F20EC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342C537-0F12-4B79-AC60-74CB069D10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84FB3DC-1872-4BB1-A9F2-B623E7C85C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B499067-937D-4566-84C5-C056A8369A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32F14F2-BC9B-4101-B291-9564DEC02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39AEC8-54DC-4E83-A9B3-2B60A8FE55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A08AB2-873C-4151-86AF-4F6C4BF71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0D11519-6EFE-433B-BC7F-1A91908E6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E267D2-B801-43C0-89C6-0C9D2E7B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9267B9A-8173-434D-BCD5-3DA46C719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74186F-317B-4C4E-A81A-0695FFE7CF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A6AEB18-FF27-4D98-B5F9-3EFF34CFA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B50137B-4315-40D5-8E72-0767D71E6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7F3B5E5-8807-48DF-9531-DCFF1D169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1C72904-F279-4DA5-961B-D9BD34994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C9C0C3-C421-44FA-90BC-2CBDD5CA1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CA73F6-F21E-4C44-A59B-42EF6760C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321620-1C75-4369-B5B2-CEF9641C8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0C0510C-DD10-4DD3-872E-D1FE8BD48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6B57AF-6915-481B-910D-0FB4D2B6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F48D50-BCCD-459E-A178-310A633261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3BCF207-B15C-4744-8211-A2F7474E3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858B771-BE1D-412E-B4CD-834B5485AA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EEC40E1-8193-4EF9-900F-20FBECDA3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9F27E1F-04C4-4353-B094-CB16EF6DF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8D4B19E-2E90-4BD0-BF1E-579957350C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72BFD9C-1E54-43F2-8FDE-B551684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793D2A-44E8-4E25-A086-6F8FCAEE1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269B-1B7E-462C-9FDC-5F99ADD29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FB45A-5548-42B6-8A47-6EEF512AB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8E7452F-AF49-4F2C-807E-2F5AE99CBF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A38441-9FBA-45A5-A581-36032F3A8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2E3C871-1114-4B5F-B80A-40CC4A32A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ACBE5BB-8DE6-4FE1-8113-AB4860264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AFAE6BB-7657-4A85-B595-E7FA46C964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FE2A797-8E8E-497B-A131-9ECEB0AF12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5B48158E-0ADD-4981-A4DF-A394AD740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A82AD4A-CE3E-448E-873F-86D619102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65CA558-3FAF-451E-9351-8241A4CA3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779DC-0F77-4D9F-A784-E4C3DE0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830FA4C-0B2E-43CC-A7BD-F946714E24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812C09-C0DA-4F8B-BADF-E1165AC5D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AF0C44-0FA9-446D-973C-2A545B82E8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A251C8-A00E-43B3-882A-66E348078A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396A53C-3791-43D4-BC06-0608E071DE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5434445-70E2-4438-90D7-5016B30793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E6150C3-A48F-4F93-8D84-DC3B7D49F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A0FE4D5-B049-4A6C-9DF6-90BAEEC15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676D8A0-F6D4-4AB8-8BEC-4142D45DC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E3E645B9-DFDF-46B6-B6B8-499C3C0C6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632E-C2AC-4FCD-BA13-68A10D783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48682-0C59-45CA-9B13-4A6164CAF7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0E70B46-1FBE-412E-9CAC-8A08F51C6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F3FC69C-977A-47A6-AB15-688B3A1BB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8001895-A249-4BF4-B34A-BDEDC010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9D78706-B1FC-4A2A-92C4-5F8D4C981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822A569-F9F1-4EC0-91E9-AE76CD95AD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DAB7075-F18C-4F8B-8B7D-0BA5718521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EACAC04-4402-4A28-B0BB-707188E08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9F576-E6B7-4924-88C0-34E3FC33E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47BCE7D0-6A85-40A5-91C7-59B812A36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16752CD-7383-4C6F-B658-3E723B865C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EEC01B-6089-4FAA-8AB6-7DAF36F25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2C596C7-6492-4562-9840-A4BD3FA51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857453-7AE6-483D-8A1C-C5BCDE6BC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117F81E-C212-4541-BBE2-2A845A6A3A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8CEF8E5-5645-4224-8DEB-737626F26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B1C354-ADBA-47D9-96B6-182B9698B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3E4810B-DA45-4EEB-A1AA-1AA36DD3E1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936D8EE-7339-4AA4-86CC-638F68F94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255D24-3BF6-4670-8B3D-AF741F943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DF78DD8-0460-4AD9-98E6-0A77CC7E6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207DEA2-C4FA-496E-BD91-2CE7B47F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AC5A30-5873-4FFD-8D6F-DA8EC1B2A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B5DB39A-DD4A-4F8B-BB83-B6D49364C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6B37F6B-C9C0-4806-92D9-31DA38E1C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334EF9B-7C76-4E5C-8A69-512C329C9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EAE6D38-35CC-4667-9C52-39408FC48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DF0B2E5-A8B8-47C9-9B3F-7842B027F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AABC53F-61D3-4D51-80A2-DA0771BF1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AA6A1F-DE99-41D0-B009-E71D063705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9F1945F-8601-4DF3-A162-85F8BD099D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9C852F5-FA21-4501-9B8C-B416779EAA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36EFC72-6D24-434B-9503-E5FA34C78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AC4DC-51AB-4F35-B9F8-7F5829A138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56279F9-E7EB-4D1D-AF00-AE1E01D44D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FFD3DB5-3E72-48D8-8695-B2F6FA276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AC277BF3-8F83-4208-8BFF-8998487E0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DF85E46-8FB3-4C9E-8305-C2E61A7AA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424E57A-73DC-40DD-A729-094F199D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F3912F-193A-4639-AB56-7D2B3CD8A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35358E3-B469-461C-BA47-E525018E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E1F6D88-FE67-4413-8EF5-5F8791DB2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9C18E0-8E98-4342-BC6A-AD467EEE2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BBC700D-B2FC-4922-B418-0DB5B8AC5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B9E8F1-4A69-47BA-8895-7E6531D6F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951295E-F872-423C-887D-27DA72FC07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79862EF-BB79-41E5-8FB8-807CE4B8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E76FB78-595D-48F5-B3E8-DE91A66C5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7945C54-8B6F-4D52-A988-6A2C1B172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45295E3-0D0D-4125-AD74-C65CA5A0E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910AB21-0BDB-4FFA-991F-CFAD88A43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02A538A-C2AC-4776-8295-CC33B3A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1DA6E1B-9349-4983-ABA1-8B8F15DCE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6976BC9-DF43-41A3-B83D-2C839D747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81EF3CA-005A-4CC0-8A4D-514640E0E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2A86C7-F104-4840-B992-3B3C014EF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F506A19-8719-45B8-B934-360B14AC7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754631-D2C2-4D4F-869E-7A18AD4ED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A38929-3EC8-4342-BC6B-629C7C82D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CA6935-B9AB-4FBF-89F0-E1AAAA35A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5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B6A038E-80FB-4175-B78E-8003991405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C1AA616-40EA-4309-BD74-C5F0D7298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EF3249A-F083-4F4F-845F-BCD37887E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F653445-3059-41CA-BE21-6E4E95606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B73251-0BB6-4EB2-ABA7-871B76252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5D10AF4-0E4F-46F3-B585-A285D662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CBC2A1-A3F8-4FC7-86C8-217EF5C609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3E506FA-B884-4A6F-8343-932E15658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68D84B4-3B55-4DE4-8F5B-C7DE3A9E1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66DF29E-643E-439E-ACD3-4382A6EA15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2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26275B2A-C6AA-44C1-9DD7-40297D689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5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7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8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5AE8C29C-A649-45E2-BE13-D019EB819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5FA13CB-0F56-4D94-8A18-C95538CCF1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E0DF935-2B13-4760-A030-D006C49AC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CB31D-9E86-4443-A5A9-82DD7DC10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A79D1F-F992-4D48-A7BF-58D921D9D3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C0E9507-1347-412B-9B36-5DEF1F7E5B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CD931A-6C91-4DA9-A875-07942BCB6D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8D44290-AE46-46E8-97A5-24DAAF672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9398B60-8FBE-446C-9F62-FBE5065B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41FCB4D-0029-475A-9749-8297C6ACF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3DE7B03-6081-474E-A220-9B8C7684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89BE1DA-498E-4573-BE49-5301403E0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DF9B090-1634-4886-8611-BE85F4B55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F34DDFF-5BFE-4BCD-A2DA-EB9B3814E8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88252BE-FBA4-40F4-82AE-EE1B0C23A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E1C8CCC-4D9A-47F3-95B1-2FB1FB816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0CB89ED0-AA42-41BF-BB6A-0473C0D76A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FEFB09-A534-46ED-BF2B-571A1F16C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9757D27-DC89-4465-BC8B-B605C1BE5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8873349-78FB-42B6-B424-077F57945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151320F-E854-4C51-82B3-ABF41AB7BC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9983F46-8893-4F89-A24B-CEE6F103F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4C1942B-DA76-4413-8D1D-740E220C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AF953A5-18B8-40D5-9907-A90024760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E197F63-6689-4BFC-AA9B-D9EB6E1C2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4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E6F2512-7FB1-4A1A-9933-FFD7CB957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7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8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9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0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DA4F37E-978E-495A-AA07-0216A1A90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EF46943-C127-4C43-9BCE-53594F6254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C04B8D-2122-42F3-8CC2-9B59767CC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D1A3F6D-86B6-4FFD-A26E-E1CE8D682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C8550B3-FC92-45E6-B5F8-ACE5E93428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E967D15-3023-4D34-9BEE-3388650B4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84E85A8-FA88-4D50-996D-F85159716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8685F3D-E085-4336-8B84-CAE66D65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B8F6F0E-82AB-4237-8EAF-A92F3C8E0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A95355F8-092D-43BB-810A-6030DE81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AD5D804-FD1F-45D8-A053-6C546E2BD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176FDD3-D3A9-4EC5-8050-B757CDF0F7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9F277FD-2DD6-4339-95EC-E895C03B0C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B478-FE0E-4C2F-BCB8-7969058B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63BF3A-66D6-472C-B5B8-D88E07F1B5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20909FC-CADA-46A3-80A4-932083F4E8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5467AEF-3912-409E-84B9-7868FF56A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062027F-3F76-4A46-9B86-4EB36111E3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334186-76F1-4837-BC30-BF36A03F7C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EEE5E5F-5CB6-4981-998E-30A49F36C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AE26F08-796D-4228-AA8C-61470B9ED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A7EBBE-DBEC-46F0-9137-4699229B88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4531A2A-F45A-413C-BEAF-46A1AFEA9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ED36C4C-ADBF-411E-AD6F-252382E5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F74FF6-11FB-4DBB-8C96-64A109ED60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EFF0F9-A250-4096-BC8A-B92E9E904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EFCB7B1-6BFE-4A8E-B62A-DDE9FD7526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5C5B644-4218-496F-A30A-E1E61C7086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4D61BBE-9DC2-4433-BAE3-737C6916D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9EB152-28CB-4262-A080-2466A62CA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F41387-734D-477B-82A6-4D4B4528F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892CFC-8F43-4AD6-8D8D-9F17400AB0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41161C-B278-47E7-BD50-9EFF43CCA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51769D-6E22-4F81-8200-0F248A8C6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96BCC-AC54-4C2A-A14C-9554D4F387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42C47E-3388-44B6-BDC6-6FD8A95697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D71BAB-2F57-473C-81C1-90D45DE1E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D845-D518-472F-AA28-31FFA3E30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7AA493B-DC2D-4EA1-8CC5-1F0A333E0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6C5856-5181-45D0-9A1E-CA7F39602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983C32-828F-4449-A6F3-CC22799AA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EAEBE7-4E7E-4CA5-90AA-83DD51799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209346A-4FB8-4F04-9F82-998F9F1C4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88720F-07DB-4F83-BD68-0901D68BD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7480F71-E8A8-4267-94B4-344AF5429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C30AA0-1F98-40F9-9526-6B8FF03D6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703487-7E90-420F-84F5-EAF1E8C56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8419F-917B-41E1-902E-632008F467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13CE9-AC6D-4902-BA62-62257D415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42C07F1-1A28-42A8-9C8C-369AC47094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7EC239-510A-4AB2-992D-AF1527185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E2A0E5-5B75-4F4B-ABE9-639420CCA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0AF9529-561C-4BA1-8376-5D8D8CC32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DC0509-FC87-419F-8C5E-E9F97FFFF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2894C5-7128-4E1C-872A-211364028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4B453A-C449-4722-9F8E-E57AB7EEC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425651-82D0-443E-963E-87BF11109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A2FBBE-1600-4A57-975D-D6ED982EF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F5F206-2D3C-44F0-AD5C-6E6CB8B083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3B266-A78C-42B2-9F47-D52B160D6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2EC1829-F104-4447-B82D-0A4F7077D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C86809-AF72-4789-8E16-27619447BA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EE38BD-0CE5-4D7A-8963-2E39852F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7AF2CB1-BF71-44BB-9C4A-D1EE771FA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714B7E-1427-45DE-8C54-FBC0513D03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CF36095-571E-42D0-9923-26B9486FE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0F595D-E543-4D8E-9AB2-B0EDE9045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E446FC7-2F3F-45D6-A306-1F0E6EB37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1A5BB24-64B8-4D4B-B486-5B2ACA16E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6A7964-A493-47C2-8389-24CD0AFD7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A9269-D50A-477D-B7C4-204FB11CE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DFE4861-C287-4675-B5B4-3054B7253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0302D22-BB0C-42A1-8CA7-258CFBB03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3CA52E-A008-4247-B1CB-5B71BCB6F0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6C2550-3C13-4946-B3AD-8C4557F4B2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EDFD2F-5C84-4CBC-A063-408260F4D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3C552B-EE64-47F3-B17C-57FB798C8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88212-2952-44FD-AA5F-18E1BB3FF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BAFC12-2972-45BD-8B8F-8CE408F275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75566A6-483D-42A0-ABBD-9E00914C33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85C3EA-D5BA-47CF-BB94-A5B9FA48F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38E49-695D-46A6-9465-D99DF7CD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C1E08E-2AAC-41F7-8C30-05F71B3D5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054B93-C274-4AA1-99EE-ABBB13CC7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1C2F95-1085-476D-B9CF-D31DC45F6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07C6055-5298-40EE-ABFC-65C357F10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79C519-DBEA-44BD-B3F9-88B5F2DA83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3B938-B816-495D-A9FD-5789D0D039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6ED72C9-A26C-4436-88A9-FAF27B430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D63C2E-F0EE-4CEA-8B3F-9A41CA58A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D398B6-D957-4103-99D5-B271FD605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D21953E-1E02-47B4-B406-58E92EFA2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447B9-1939-4595-916E-E0BA81C71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B688878-0742-4688-BDAD-FBA0432E7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E465357-88F6-438C-99C6-977C3E450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ADED78A-B2A5-45AC-A8BF-47DAF52053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4EC61E-31B1-4F75-B77D-798C4B1076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D47C88B-4B18-405F-92BB-0C0DCD62B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659ADB9-0F78-4F7D-B784-F82E62FA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622F7A2-3D92-4799-9AB5-A874EB3A9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6DFC940-09A3-4723-9CEB-95A65880F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B3592E8-6DF9-4BE7-AB66-3F9F62C9F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B4ECD7F-638D-42BF-8224-FB253D4C7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69.xml"/><Relationship Id="rId8" Type="http://schemas.openxmlformats.org/officeDocument/2006/relationships/slideLayout" Target="../slideLayouts/slideLayout170.xml"/><Relationship Id="rId9" Type="http://schemas.openxmlformats.org/officeDocument/2006/relationships/slideLayout" Target="../slideLayouts/slideLayout171.xml"/><Relationship Id="rId10" Type="http://schemas.openxmlformats.org/officeDocument/2006/relationships/slideLayout" Target="../slideLayouts/slideLayout172.xml"/><Relationship Id="rId11" Type="http://schemas.openxmlformats.org/officeDocument/2006/relationships/slideLayout" Target="../slideLayouts/slideLayout173.xml"/><Relationship Id="rId12" Type="http://schemas.openxmlformats.org/officeDocument/2006/relationships/slideLayout" Target="../slideLayouts/slideLayout174.xml"/><Relationship Id="rId13" Type="http://schemas.openxmlformats.org/officeDocument/2006/relationships/slideLayout" Target="../slideLayouts/slideLayout175.xml"/><Relationship Id="rId14" Type="http://schemas.openxmlformats.org/officeDocument/2006/relationships/slideLayout" Target="../slideLayouts/slideLayout176.xml"/><Relationship Id="rId15" Type="http://schemas.openxmlformats.org/officeDocument/2006/relationships/slideLayout" Target="../slideLayouts/slideLayout177.xml"/><Relationship Id="rId16" Type="http://schemas.openxmlformats.org/officeDocument/2006/relationships/slideLayout" Target="../slideLayouts/slideLayout178.xml"/><Relationship Id="rId17" Type="http://schemas.openxmlformats.org/officeDocument/2006/relationships/slideLayout" Target="../slideLayouts/slideLayout179.xml"/><Relationship Id="rId18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CD27E6-093C-4CE5-8217-A69D2B32B1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6A217-3E00-4C1F-BF15-4DAD53BCB0B8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DA51-ECF3-4CFD-809F-72519D1529A9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C95A7F-FD36-45EF-83D8-111C39D701C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B0423-0E1E-4913-BC05-24465C94AC4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 type="dt" idx="4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 type="ftr" idx="4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 type="sldNum" idx="4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74D804-EA6A-4F73-8C02-AE0ABC72C45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4" name="矩形 5" descr=""/>
          <p:cNvPicPr/>
          <p:nvPr/>
        </p:nvPicPr>
        <p:blipFill>
          <a:blip r:embed="rId2"/>
          <a:stretch/>
        </p:blipFill>
        <p:spPr>
          <a:xfrm>
            <a:off x="-17640" y="627120"/>
            <a:ext cx="9180720" cy="4029120"/>
          </a:xfrm>
          <a:prstGeom prst="rect">
            <a:avLst/>
          </a:prstGeom>
          <a:ln w="0">
            <a:noFill/>
          </a:ln>
        </p:spPr>
      </p:pic>
      <p:pic>
        <p:nvPicPr>
          <p:cNvPr id="575" name="矩形 6" descr=""/>
          <p:cNvPicPr/>
          <p:nvPr/>
        </p:nvPicPr>
        <p:blipFill>
          <a:blip r:embed="rId3"/>
          <a:stretch/>
        </p:blipFill>
        <p:spPr>
          <a:xfrm>
            <a:off x="-6480" y="-9360"/>
            <a:ext cx="9186840" cy="652320"/>
          </a:xfrm>
          <a:prstGeom prst="rect">
            <a:avLst/>
          </a:prstGeom>
          <a:ln w="0">
            <a:noFill/>
          </a:ln>
        </p:spPr>
      </p:pic>
      <p:pic>
        <p:nvPicPr>
          <p:cNvPr id="576" name="图片 11" descr="png素材 (276).png"/>
          <p:cNvPicPr/>
          <p:nvPr/>
        </p:nvPicPr>
        <p:blipFill>
          <a:blip r:embed="rId4"/>
          <a:stretch/>
        </p:blipFill>
        <p:spPr>
          <a:xfrm>
            <a:off x="0" y="1440"/>
            <a:ext cx="785880" cy="588960"/>
          </a:xfrm>
          <a:prstGeom prst="rect">
            <a:avLst/>
          </a:prstGeom>
          <a:ln w="0">
            <a:noFill/>
          </a:ln>
        </p:spPr>
      </p:pic>
      <p:pic>
        <p:nvPicPr>
          <p:cNvPr id="577" name="矩形 8" descr=""/>
          <p:cNvPicPr/>
          <p:nvPr/>
        </p:nvPicPr>
        <p:blipFill>
          <a:blip r:embed="rId5"/>
          <a:stretch/>
        </p:blipFill>
        <p:spPr>
          <a:xfrm>
            <a:off x="4714920" y="249120"/>
            <a:ext cx="4421160" cy="311400"/>
          </a:xfrm>
          <a:prstGeom prst="rect">
            <a:avLst/>
          </a:prstGeom>
          <a:ln w="0">
            <a:noFill/>
          </a:ln>
        </p:spPr>
      </p:pic>
      <p:sp>
        <p:nvSpPr>
          <p:cNvPr id="578" name="矩形 9"/>
          <p:cNvSpPr/>
          <p:nvPr/>
        </p:nvSpPr>
        <p:spPr>
          <a:xfrm>
            <a:off x="-7920" y="4532400"/>
            <a:ext cx="9188280" cy="611280"/>
          </a:xfrm>
          <a:prstGeom prst="rect">
            <a:avLst/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579" name="Picture 6" descr=""/>
          <p:cNvPicPr/>
          <p:nvPr/>
        </p:nvPicPr>
        <p:blipFill>
          <a:blip r:embed="rId6"/>
          <a:stretch/>
        </p:blipFill>
        <p:spPr>
          <a:xfrm>
            <a:off x="3314880" y="4759200"/>
            <a:ext cx="5829120" cy="206640"/>
          </a:xfrm>
          <a:prstGeom prst="rect">
            <a:avLst/>
          </a:prstGeom>
          <a:ln w="0">
            <a:noFill/>
          </a:ln>
        </p:spPr>
      </p:pic>
      <p:sp>
        <p:nvSpPr>
          <p:cNvPr id="580" name="TextBox 11"/>
          <p:cNvSpPr/>
          <p:nvPr/>
        </p:nvSpPr>
        <p:spPr>
          <a:xfrm>
            <a:off x="3348000" y="4761000"/>
            <a:ext cx="5356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ff"/>
                </a:solidFill>
                <a:latin typeface="微软雅黑"/>
                <a:ea typeface="微软雅黑"/>
              </a:rPr>
              <a:t>第一</a:t>
            </a:r>
            <a:r>
              <a:rPr b="0" lang="en-US" sz="1000" spc="-1" strike="noStrike">
                <a:solidFill>
                  <a:srgbClr val="0000ff"/>
                </a:solidFill>
                <a:latin typeface="微软雅黑"/>
                <a:ea typeface="微软雅黑"/>
              </a:rPr>
              <a:t>PPT HTTP://WWW.1PPT.COM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1" name="Freeform 2670"/>
          <p:cNvSpPr/>
          <p:nvPr/>
        </p:nvSpPr>
        <p:spPr>
          <a:xfrm>
            <a:off x="2786040" y="4705200"/>
            <a:ext cx="403200" cy="304920"/>
          </a:xfrm>
          <a:custGeom>
            <a:avLst/>
            <a:gdLst/>
            <a:ahLst/>
            <a:rect l="l" t="t" r="r" b="b"/>
            <a:pathLst>
              <a:path w="300" h="302">
                <a:moveTo>
                  <a:pt x="140" y="278"/>
                </a:moveTo>
                <a:lnTo>
                  <a:pt x="140" y="278"/>
                </a:lnTo>
                <a:lnTo>
                  <a:pt x="128" y="288"/>
                </a:lnTo>
                <a:lnTo>
                  <a:pt x="114" y="296"/>
                </a:lnTo>
                <a:lnTo>
                  <a:pt x="98" y="300"/>
                </a:lnTo>
                <a:lnTo>
                  <a:pt x="82" y="302"/>
                </a:lnTo>
                <a:lnTo>
                  <a:pt x="30" y="302"/>
                </a:lnTo>
                <a:lnTo>
                  <a:pt x="18" y="300"/>
                </a:lnTo>
                <a:lnTo>
                  <a:pt x="8" y="292"/>
                </a:lnTo>
                <a:lnTo>
                  <a:pt x="2" y="284"/>
                </a:lnTo>
                <a:lnTo>
                  <a:pt x="0" y="272"/>
                </a:lnTo>
                <a:lnTo>
                  <a:pt x="0" y="218"/>
                </a:lnTo>
                <a:lnTo>
                  <a:pt x="0" y="202"/>
                </a:lnTo>
                <a:lnTo>
                  <a:pt x="6" y="188"/>
                </a:lnTo>
                <a:lnTo>
                  <a:pt x="14" y="174"/>
                </a:lnTo>
                <a:lnTo>
                  <a:pt x="24" y="160"/>
                </a:lnTo>
                <a:lnTo>
                  <a:pt x="160" y="24"/>
                </a:lnTo>
                <a:lnTo>
                  <a:pt x="172" y="14"/>
                </a:lnTo>
                <a:lnTo>
                  <a:pt x="186" y="6"/>
                </a:lnTo>
                <a:lnTo>
                  <a:pt x="202" y="2"/>
                </a:lnTo>
                <a:lnTo>
                  <a:pt x="218" y="0"/>
                </a:lnTo>
                <a:lnTo>
                  <a:pt x="234" y="2"/>
                </a:lnTo>
                <a:lnTo>
                  <a:pt x="250" y="6"/>
                </a:lnTo>
                <a:lnTo>
                  <a:pt x="264" y="14"/>
                </a:lnTo>
                <a:lnTo>
                  <a:pt x="276" y="24"/>
                </a:lnTo>
                <a:lnTo>
                  <a:pt x="288" y="38"/>
                </a:lnTo>
                <a:lnTo>
                  <a:pt x="294" y="52"/>
                </a:lnTo>
                <a:lnTo>
                  <a:pt x="300" y="66"/>
                </a:lnTo>
                <a:lnTo>
                  <a:pt x="300" y="84"/>
                </a:lnTo>
                <a:lnTo>
                  <a:pt x="300" y="100"/>
                </a:lnTo>
                <a:lnTo>
                  <a:pt x="294" y="116"/>
                </a:lnTo>
                <a:lnTo>
                  <a:pt x="288" y="130"/>
                </a:lnTo>
                <a:lnTo>
                  <a:pt x="276" y="142"/>
                </a:lnTo>
                <a:lnTo>
                  <a:pt x="140" y="278"/>
                </a:lnTo>
                <a:close/>
                <a:moveTo>
                  <a:pt x="42" y="186"/>
                </a:moveTo>
                <a:lnTo>
                  <a:pt x="42" y="186"/>
                </a:lnTo>
                <a:lnTo>
                  <a:pt x="36" y="194"/>
                </a:lnTo>
                <a:lnTo>
                  <a:pt x="32" y="202"/>
                </a:lnTo>
                <a:lnTo>
                  <a:pt x="30" y="210"/>
                </a:lnTo>
                <a:lnTo>
                  <a:pt x="30" y="218"/>
                </a:lnTo>
                <a:lnTo>
                  <a:pt x="30" y="228"/>
                </a:lnTo>
                <a:lnTo>
                  <a:pt x="38" y="226"/>
                </a:lnTo>
                <a:lnTo>
                  <a:pt x="44" y="228"/>
                </a:lnTo>
                <a:lnTo>
                  <a:pt x="52" y="230"/>
                </a:lnTo>
                <a:lnTo>
                  <a:pt x="58" y="232"/>
                </a:lnTo>
                <a:lnTo>
                  <a:pt x="64" y="238"/>
                </a:lnTo>
                <a:lnTo>
                  <a:pt x="68" y="244"/>
                </a:lnTo>
                <a:lnTo>
                  <a:pt x="72" y="250"/>
                </a:lnTo>
                <a:lnTo>
                  <a:pt x="74" y="256"/>
                </a:lnTo>
                <a:lnTo>
                  <a:pt x="74" y="264"/>
                </a:lnTo>
                <a:lnTo>
                  <a:pt x="74" y="272"/>
                </a:lnTo>
                <a:lnTo>
                  <a:pt x="82" y="272"/>
                </a:lnTo>
                <a:lnTo>
                  <a:pt x="92" y="270"/>
                </a:lnTo>
                <a:lnTo>
                  <a:pt x="100" y="268"/>
                </a:lnTo>
                <a:lnTo>
                  <a:pt x="108" y="266"/>
                </a:lnTo>
                <a:lnTo>
                  <a:pt x="116" y="260"/>
                </a:lnTo>
                <a:lnTo>
                  <a:pt x="120" y="252"/>
                </a:lnTo>
                <a:lnTo>
                  <a:pt x="124" y="244"/>
                </a:lnTo>
                <a:lnTo>
                  <a:pt x="126" y="236"/>
                </a:lnTo>
                <a:lnTo>
                  <a:pt x="128" y="226"/>
                </a:lnTo>
                <a:lnTo>
                  <a:pt x="126" y="216"/>
                </a:lnTo>
                <a:lnTo>
                  <a:pt x="124" y="206"/>
                </a:lnTo>
                <a:lnTo>
                  <a:pt x="118" y="198"/>
                </a:lnTo>
                <a:lnTo>
                  <a:pt x="112" y="190"/>
                </a:lnTo>
                <a:lnTo>
                  <a:pt x="104" y="182"/>
                </a:lnTo>
                <a:lnTo>
                  <a:pt x="94" y="178"/>
                </a:lnTo>
                <a:lnTo>
                  <a:pt x="86" y="174"/>
                </a:lnTo>
                <a:lnTo>
                  <a:pt x="74" y="174"/>
                </a:lnTo>
                <a:lnTo>
                  <a:pt x="66" y="174"/>
                </a:lnTo>
                <a:lnTo>
                  <a:pt x="58" y="176"/>
                </a:lnTo>
                <a:lnTo>
                  <a:pt x="50" y="180"/>
                </a:lnTo>
                <a:lnTo>
                  <a:pt x="42" y="186"/>
                </a:lnTo>
                <a:close/>
                <a:moveTo>
                  <a:pt x="158" y="218"/>
                </a:moveTo>
                <a:lnTo>
                  <a:pt x="256" y="120"/>
                </a:lnTo>
                <a:lnTo>
                  <a:pt x="262" y="112"/>
                </a:lnTo>
                <a:lnTo>
                  <a:pt x="266" y="104"/>
                </a:lnTo>
                <a:lnTo>
                  <a:pt x="270" y="94"/>
                </a:lnTo>
                <a:lnTo>
                  <a:pt x="270" y="84"/>
                </a:lnTo>
                <a:lnTo>
                  <a:pt x="270" y="72"/>
                </a:lnTo>
                <a:lnTo>
                  <a:pt x="266" y="64"/>
                </a:lnTo>
                <a:lnTo>
                  <a:pt x="262" y="54"/>
                </a:lnTo>
                <a:lnTo>
                  <a:pt x="256" y="46"/>
                </a:lnTo>
                <a:lnTo>
                  <a:pt x="248" y="40"/>
                </a:lnTo>
                <a:lnTo>
                  <a:pt x="238" y="34"/>
                </a:lnTo>
                <a:lnTo>
                  <a:pt x="228" y="32"/>
                </a:lnTo>
                <a:lnTo>
                  <a:pt x="218" y="30"/>
                </a:lnTo>
                <a:lnTo>
                  <a:pt x="208" y="32"/>
                </a:lnTo>
                <a:lnTo>
                  <a:pt x="198" y="34"/>
                </a:lnTo>
                <a:lnTo>
                  <a:pt x="188" y="40"/>
                </a:lnTo>
                <a:lnTo>
                  <a:pt x="180" y="46"/>
                </a:lnTo>
                <a:lnTo>
                  <a:pt x="82" y="144"/>
                </a:lnTo>
                <a:lnTo>
                  <a:pt x="96" y="146"/>
                </a:lnTo>
                <a:lnTo>
                  <a:pt x="110" y="152"/>
                </a:lnTo>
                <a:lnTo>
                  <a:pt x="122" y="158"/>
                </a:lnTo>
                <a:lnTo>
                  <a:pt x="134" y="168"/>
                </a:lnTo>
                <a:lnTo>
                  <a:pt x="142" y="180"/>
                </a:lnTo>
                <a:lnTo>
                  <a:pt x="150" y="192"/>
                </a:lnTo>
                <a:lnTo>
                  <a:pt x="154" y="204"/>
                </a:lnTo>
                <a:lnTo>
                  <a:pt x="158" y="218"/>
                </a:lnTo>
                <a:close/>
              </a:path>
            </a:pathLst>
          </a:custGeom>
          <a:gradFill rotWithShape="0">
            <a:gsLst>
              <a:gs pos="0">
                <a:srgbClr val="ff6600"/>
              </a:gs>
              <a:gs pos="100000">
                <a:srgbClr val="ff33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 type="dt" idx="4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 type="ftr" idx="4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 type="sldNum" idx="4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06F56-D628-4C34-950D-A863CB75A33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7"/>
    <p:sldLayoutId id="2147483832" r:id="rId8"/>
    <p:sldLayoutId id="2147483833" r:id="rId9"/>
    <p:sldLayoutId id="2147483834" r:id="rId10"/>
    <p:sldLayoutId id="2147483835" r:id="rId11"/>
    <p:sldLayoutId id="2147483836" r:id="rId12"/>
    <p:sldLayoutId id="2147483837" r:id="rId13"/>
    <p:sldLayoutId id="2147483838" r:id="rId14"/>
    <p:sldLayoutId id="2147483839" r:id="rId15"/>
    <p:sldLayoutId id="2147483840" r:id="rId16"/>
    <p:sldLayoutId id="2147483841" r:id="rId17"/>
    <p:sldLayoutId id="2147483842" r:id="rId18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 type="dt" idx="4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B8382-9D06-4D80-9163-8184BF1EF0B2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 type="ftr" idx="4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 type="sldNum" idx="4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97DF1-6667-47B8-96AB-A6A027F0270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76054F-89CA-406F-8BA3-7FB438ABB9F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5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5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8F14-5C33-426F-822A-77A337630231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A77875-0D51-437B-91CC-425D15551AA4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DC6FA8-8DE7-4BB1-99FC-8C79A21851E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8" name="PlaceHolder 3"/>
          <p:cNvSpPr>
            <a:spLocks noGrp="1"/>
          </p:cNvSpPr>
          <p:nvPr>
            <p:ph type="dt" idx="55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C62827-B833-4BF3-834E-1A92D8BAE95F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PlaceHolder 4"/>
          <p:cNvSpPr>
            <a:spLocks noGrp="1"/>
          </p:cNvSpPr>
          <p:nvPr>
            <p:ph type="ftr" idx="56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PlaceHolder 5"/>
          <p:cNvSpPr>
            <a:spLocks noGrp="1"/>
          </p:cNvSpPr>
          <p:nvPr>
            <p:ph type="sldNum" idx="57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9701-01F9-4216-80CA-4F1CF0311F0B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3D094-936E-4C98-8F87-55ABE8029BE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C3B7B-5A08-4896-9F96-BC9A845C988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8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156DF-0849-4B5C-866E-F33EF0CDE1E0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9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60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26FA1-7438-4FD1-8428-AB15B4F6A117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0" name="PlaceHolder 3"/>
          <p:cNvSpPr>
            <a:spLocks noGrp="1"/>
          </p:cNvSpPr>
          <p:nvPr>
            <p:ph type="dt" idx="6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2AA32-AF66-4218-845E-8A24CA47F63B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4"/>
          <p:cNvSpPr>
            <a:spLocks noGrp="1"/>
          </p:cNvSpPr>
          <p:nvPr>
            <p:ph type="ftr" idx="6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2" name="PlaceHolder 5"/>
          <p:cNvSpPr>
            <a:spLocks noGrp="1"/>
          </p:cNvSpPr>
          <p:nvPr>
            <p:ph type="sldNum" idx="6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1E8893-8385-43E6-873B-FA87FAFCFE8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 type="dt" idx="64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5C7E6-0D36-49BE-805D-FB85B93E574D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 type="ftr" idx="65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 type="sldNum" idx="66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FFA13-F6A4-4F11-B5A4-5EA1E0DC338F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PlaceHolder 3"/>
          <p:cNvSpPr>
            <a:spLocks noGrp="1"/>
          </p:cNvSpPr>
          <p:nvPr>
            <p:ph type="dt" idx="67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EBAA9-3F5B-4D13-8EAB-100806F2360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PlaceHolder 4"/>
          <p:cNvSpPr>
            <a:spLocks noGrp="1"/>
          </p:cNvSpPr>
          <p:nvPr>
            <p:ph type="ftr" idx="68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4" name="PlaceHolder 5"/>
          <p:cNvSpPr>
            <a:spLocks noGrp="1"/>
          </p:cNvSpPr>
          <p:nvPr>
            <p:ph type="sldNum" idx="69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6A8EEA-4389-45C8-B7F4-C8568EFE506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3" name="PlaceHolder 3"/>
          <p:cNvSpPr>
            <a:spLocks noGrp="1"/>
          </p:cNvSpPr>
          <p:nvPr>
            <p:ph type="dt" idx="70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2C6F80-482F-444F-A6EB-8C3B2F68E446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4"/>
          <p:cNvSpPr>
            <a:spLocks noGrp="1"/>
          </p:cNvSpPr>
          <p:nvPr>
            <p:ph type="ftr" idx="71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5" name="PlaceHolder 5"/>
          <p:cNvSpPr>
            <a:spLocks noGrp="1"/>
          </p:cNvSpPr>
          <p:nvPr>
            <p:ph type="sldNum" idx="72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56A61-9231-4F61-A12B-D0A95E88D35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 type="dt" idx="73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65E34-2A98-4AB5-BABE-017188F224B9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5" name="PlaceHolder 4"/>
          <p:cNvSpPr>
            <a:spLocks noGrp="1"/>
          </p:cNvSpPr>
          <p:nvPr>
            <p:ph type="ftr" idx="74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6" name="PlaceHolder 5"/>
          <p:cNvSpPr>
            <a:spLocks noGrp="1"/>
          </p:cNvSpPr>
          <p:nvPr>
            <p:ph type="sldNum" idx="75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5EA52-8111-4F49-9C42-065FDFF802E2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609120" indent="-2343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37080" indent="-1872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11840" indent="-18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86960" indent="-1872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 type="dt" idx="76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0E555C-28DA-4760-9432-E4B6BF925361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 type="ftr" idx="77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 type="sldNum" idx="78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algn="r">
              <a:lnSpc>
                <a:spcPct val="100000"/>
              </a:lnSpc>
              <a:buClr>
                <a:srgbClr val="89898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0318F4-0221-4552-B61F-77A2B3A3E214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D503B-4E78-4457-96C6-04C8571FD8F5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algn="r"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7834FA-E45F-41FF-A337-8AA5A0CE126A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38AA8-497B-4F20-A27F-B3EF562C6874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FAE1C-B279-40F5-98C5-745BE78E8B63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114030-078F-432A-9FDD-C7CA45AEA20F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7112-460C-4FBD-92D3-33AF6F8D208B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857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85800" y="1486080"/>
            <a:ext cx="77724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-25380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549720" indent="-21132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8456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40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1522440" indent="-168840">
              <a:spcBef>
                <a:spcPts val="799"/>
              </a:spcBef>
              <a:buClr>
                <a:srgbClr val="3366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1522440" indent="-16884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8580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4686480"/>
            <a:ext cx="289584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3080" y="4686480"/>
            <a:ext cx="1905120" cy="34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8A834-32FA-4979-B087-F52C9D6DFA4C}" type="slidenum">
              <a:rPr b="0" lang="zh-CN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9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jpe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37.xml"/><Relationship Id="rId7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image" Target="../media/image20.png"/><Relationship Id="rId8" Type="http://schemas.openxmlformats.org/officeDocument/2006/relationships/image" Target="../media/image21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image" Target="../media/image22.png"/><Relationship Id="rId10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14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1" name="图片 3" descr=""/>
          <p:cNvPicPr/>
          <p:nvPr/>
        </p:nvPicPr>
        <p:blipFill>
          <a:blip r:embed="rId2"/>
          <a:stretch/>
        </p:blipFill>
        <p:spPr>
          <a:xfrm>
            <a:off x="0" y="-20520"/>
            <a:ext cx="9144000" cy="2925720"/>
          </a:xfrm>
          <a:prstGeom prst="rect">
            <a:avLst/>
          </a:prstGeom>
          <a:ln w="0">
            <a:noFill/>
          </a:ln>
        </p:spPr>
      </p:pic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468000" y="2666520"/>
            <a:ext cx="8496360" cy="10796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院级项目库建设管理办法</a:t>
            </a:r>
            <a:br>
              <a:rPr sz="4000"/>
            </a:br>
            <a:r>
              <a:rPr b="1" lang="zh-CN" sz="4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及实施方案解读</a:t>
            </a:r>
            <a:br>
              <a:rPr sz="4000"/>
            </a:br>
            <a:endParaRPr b="0" lang="en-US" sz="4000" spc="-1" strike="noStrike">
              <a:solidFill>
                <a:srgbClr val="ffcc66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2627280" y="3867120"/>
            <a:ext cx="6966000" cy="72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华文行楷"/>
                <a:ea typeface="华文行楷"/>
              </a:rPr>
              <a:t>财务处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84" name="图片 6" descr="警徽.png"/>
          <p:cNvPicPr/>
          <p:nvPr/>
        </p:nvPicPr>
        <p:blipFill>
          <a:blip r:embed="rId3"/>
          <a:stretch/>
        </p:blipFill>
        <p:spPr>
          <a:xfrm>
            <a:off x="3708360" y="123840"/>
            <a:ext cx="1728720" cy="1511280"/>
          </a:xfrm>
          <a:prstGeom prst="rect">
            <a:avLst/>
          </a:prstGeom>
          <a:ln w="0">
            <a:noFill/>
          </a:ln>
        </p:spPr>
      </p:pic>
      <p:pic>
        <p:nvPicPr>
          <p:cNvPr id="1085" name="图片 8" descr=""/>
          <p:cNvPicPr/>
          <p:nvPr/>
        </p:nvPicPr>
        <p:blipFill>
          <a:blip r:embed="rId4"/>
          <a:stretch/>
        </p:blipFill>
        <p:spPr>
          <a:xfrm>
            <a:off x="3038400" y="3927600"/>
            <a:ext cx="2327400" cy="482400"/>
          </a:xfrm>
          <a:prstGeom prst="rect">
            <a:avLst/>
          </a:prstGeom>
          <a:ln w="0">
            <a:noFill/>
          </a:ln>
        </p:spPr>
      </p:pic>
      <p:pic>
        <p:nvPicPr>
          <p:cNvPr id="1086" name="图片 9" descr=""/>
          <p:cNvPicPr/>
          <p:nvPr/>
        </p:nvPicPr>
        <p:blipFill>
          <a:blip r:embed="rId5"/>
          <a:stretch/>
        </p:blipFill>
        <p:spPr>
          <a:xfrm>
            <a:off x="2195640" y="3795840"/>
            <a:ext cx="771480" cy="7585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3276360" y="742680"/>
            <a:ext cx="6048360" cy="857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感谢各位领导！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46" name="图片 2" descr=""/>
          <p:cNvPicPr/>
          <p:nvPr/>
        </p:nvPicPr>
        <p:blipFill>
          <a:blip r:embed="rId2"/>
          <a:stretch/>
        </p:blipFill>
        <p:spPr>
          <a:xfrm>
            <a:off x="6588000" y="4465800"/>
            <a:ext cx="2327400" cy="482400"/>
          </a:xfrm>
          <a:prstGeom prst="rect">
            <a:avLst/>
          </a:prstGeom>
          <a:ln w="0">
            <a:noFill/>
          </a:ln>
        </p:spPr>
      </p:pic>
      <p:pic>
        <p:nvPicPr>
          <p:cNvPr id="1247" name="图片 3" descr=""/>
          <p:cNvPicPr/>
          <p:nvPr/>
        </p:nvPicPr>
        <p:blipFill>
          <a:blip r:embed="rId3"/>
          <a:stretch/>
        </p:blipFill>
        <p:spPr>
          <a:xfrm>
            <a:off x="5745240" y="4334040"/>
            <a:ext cx="771480" cy="75852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7" name="图片 4" descr=""/>
          <p:cNvPicPr/>
          <p:nvPr/>
        </p:nvPicPr>
        <p:blipFill>
          <a:blip r:embed="rId1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088" name="图片 5" descr=""/>
          <p:cNvPicPr/>
          <p:nvPr/>
        </p:nvPicPr>
        <p:blipFill>
          <a:blip r:embed="rId2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089" name="图片 6" descr=""/>
          <p:cNvPicPr/>
          <p:nvPr/>
        </p:nvPicPr>
        <p:blipFill>
          <a:blip r:embed="rId3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sp>
        <p:nvSpPr>
          <p:cNvPr id="1090" name="矩形 2"/>
          <p:cNvSpPr/>
          <p:nvPr/>
        </p:nvSpPr>
        <p:spPr>
          <a:xfrm>
            <a:off x="611280" y="1347840"/>
            <a:ext cx="3886200" cy="29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457200" indent="-457200">
              <a:lnSpc>
                <a:spcPct val="140000"/>
              </a:lnSpc>
              <a:spcBef>
                <a:spcPts val="1001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《江苏省省级项目库管理办法（试行）》（苏财规〔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2011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〕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30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1" name="矩形 7"/>
          <p:cNvSpPr/>
          <p:nvPr/>
        </p:nvSpPr>
        <p:spPr>
          <a:xfrm>
            <a:off x="4643280" y="1276200"/>
            <a:ext cx="3886200" cy="29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 marL="457200" indent="-457200">
              <a:lnSpc>
                <a:spcPct val="160000"/>
              </a:lnSpc>
              <a:spcBef>
                <a:spcPts val="1001"/>
              </a:spcBef>
              <a:buClr>
                <a:srgbClr val="ff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《江苏省财政厅关于完善省级项目库管理的通知》（苏财预〔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2015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〕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124</a:t>
            </a:r>
            <a:r>
              <a:rPr b="0" lang="zh-CN" sz="2400" spc="-1" strike="noStrike">
                <a:solidFill>
                  <a:srgbClr val="ff0033"/>
                </a:solidFill>
                <a:latin typeface="Times New Roman"/>
              </a:rPr>
              <a:t>号）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92" name="图片 3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093" name="圆角矩形 79" descr=""/>
          <p:cNvPicPr/>
          <p:nvPr/>
        </p:nvPicPr>
        <p:blipFill>
          <a:blip r:embed="rId5"/>
          <a:stretch/>
        </p:blipFill>
        <p:spPr>
          <a:xfrm>
            <a:off x="2771640" y="50760"/>
            <a:ext cx="358488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diamond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10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4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095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096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097" name="图片 8" descr=""/>
          <p:cNvPicPr/>
          <p:nvPr/>
        </p:nvPicPr>
        <p:blipFill>
          <a:blip r:embed="rId4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pic>
        <p:nvPicPr>
          <p:cNvPr id="1098" name="圆角矩形 79" descr=""/>
          <p:cNvPicPr/>
          <p:nvPr/>
        </p:nvPicPr>
        <p:blipFill>
          <a:blip r:embed="rId5"/>
          <a:stretch/>
        </p:blipFill>
        <p:spPr>
          <a:xfrm>
            <a:off x="2771640" y="0"/>
            <a:ext cx="3584880" cy="495360"/>
          </a:xfrm>
          <a:prstGeom prst="rect">
            <a:avLst/>
          </a:prstGeom>
          <a:ln w="0">
            <a:noFill/>
          </a:ln>
        </p:spPr>
      </p:pic>
      <p:sp>
        <p:nvSpPr>
          <p:cNvPr id="1099" name="文本框 99"/>
          <p:cNvSpPr/>
          <p:nvPr/>
        </p:nvSpPr>
        <p:spPr>
          <a:xfrm>
            <a:off x="808200" y="849240"/>
            <a:ext cx="748476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统一建设、统一管理原则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财务部门负责统一制定项目库管理的规章制度、办法，统一建设管理项目库，扎口负责项目申报审核、出入库管理等日常工作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保证重点、滚动管理原则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项目库项目按照规范程序进行申报审核，择优排序，保证重点，及时入库，定时清结，滚动管理；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buClr>
                <a:srgbClr val="ff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楷体"/>
                <a:ea typeface="楷体"/>
              </a:rPr>
              <a:t>全程监管、追踪问效原则。</a:t>
            </a:r>
            <a:r>
              <a:rPr b="0" lang="zh-CN" sz="2000" spc="-1" strike="noStrike">
                <a:solidFill>
                  <a:srgbClr val="000000"/>
                </a:solidFill>
                <a:latin typeface="楷体"/>
                <a:ea typeface="楷体"/>
              </a:rPr>
              <a:t>项目库中已安排的项目实行预算分配、执行、监督、决算和绩效评价全过程管理，确保项目资金安全、规范、有效使用。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500"/>
                                        <p:tgtEl>
                                          <p:spTgt spid="10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900"/>
                            </p:stCondLst>
                            <p:childTnLst>
                              <p:par>
                                <p:cTn id="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" dur="500"/>
                                        <p:tgtEl>
                                          <p:spTgt spid="10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400"/>
                            </p:stCondLst>
                            <p:childTnLst>
                              <p:par>
                                <p:cTn id="2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900"/>
                            </p:stCondLst>
                            <p:childTnLst>
                              <p:par>
                                <p:cTn id="2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" dur="500"/>
                                        <p:tgtEl>
                                          <p:spTgt spid="10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0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101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102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103" name="图片 8" descr=""/>
          <p:cNvPicPr/>
          <p:nvPr/>
        </p:nvPicPr>
        <p:blipFill>
          <a:blip r:embed="rId4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pic>
        <p:nvPicPr>
          <p:cNvPr id="1104" name="矩形 70" descr=""/>
          <p:cNvPicPr/>
          <p:nvPr/>
        </p:nvPicPr>
        <p:blipFill>
          <a:blip r:embed="rId5"/>
          <a:stretch/>
        </p:blipFill>
        <p:spPr>
          <a:xfrm>
            <a:off x="257040" y="2057400"/>
            <a:ext cx="3089520" cy="1746360"/>
          </a:xfrm>
          <a:prstGeom prst="rect">
            <a:avLst/>
          </a:prstGeom>
          <a:ln w="0">
            <a:noFill/>
          </a:ln>
        </p:spPr>
      </p:pic>
      <p:pic>
        <p:nvPicPr>
          <p:cNvPr id="1105" name="矩形 72" descr=""/>
          <p:cNvPicPr/>
          <p:nvPr/>
        </p:nvPicPr>
        <p:blipFill>
          <a:blip r:embed="rId6"/>
          <a:stretch/>
        </p:blipFill>
        <p:spPr>
          <a:xfrm>
            <a:off x="4803840" y="1047600"/>
            <a:ext cx="3876480" cy="2206800"/>
          </a:xfrm>
          <a:prstGeom prst="rect">
            <a:avLst/>
          </a:prstGeom>
          <a:ln w="0">
            <a:noFill/>
          </a:ln>
        </p:spPr>
      </p:pic>
      <p:grpSp>
        <p:nvGrpSpPr>
          <p:cNvPr id="1106" name="组合 74"/>
          <p:cNvGrpSpPr/>
          <p:nvPr/>
        </p:nvGrpSpPr>
        <p:grpSpPr>
          <a:xfrm>
            <a:off x="569880" y="1231560"/>
            <a:ext cx="730440" cy="914760"/>
            <a:chOff x="569880" y="1231560"/>
            <a:chExt cx="730440" cy="914760"/>
          </a:xfrm>
        </p:grpSpPr>
        <p:grpSp>
          <p:nvGrpSpPr>
            <p:cNvPr id="1107" name="组合 75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08" name="文本框 72"/>
            <p:cNvSpPr/>
            <p:nvPr/>
          </p:nvSpPr>
          <p:spPr>
            <a:xfrm>
              <a:off x="569880" y="1231560"/>
              <a:ext cx="7304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哪些项目要按规定纳入项目库管理？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09" name="组合 85"/>
          <p:cNvGrpSpPr/>
          <p:nvPr/>
        </p:nvGrpSpPr>
        <p:grpSpPr>
          <a:xfrm>
            <a:off x="3901680" y="2528280"/>
            <a:ext cx="746640" cy="914760"/>
            <a:chOff x="3901680" y="2528280"/>
            <a:chExt cx="746640" cy="914760"/>
          </a:xfrm>
        </p:grpSpPr>
        <p:grpSp>
          <p:nvGrpSpPr>
            <p:cNvPr id="1110" name="组合 8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11" name="文本框 72"/>
            <p:cNvSpPr/>
            <p:nvPr/>
          </p:nvSpPr>
          <p:spPr>
            <a:xfrm>
              <a:off x="3901680" y="2528280"/>
              <a:ext cx="746640" cy="914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项目库管理涉及哪些部门，承担哪些责任？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12" name="矩形 47"/>
          <p:cNvSpPr/>
          <p:nvPr/>
        </p:nvSpPr>
        <p:spPr>
          <a:xfrm>
            <a:off x="480960" y="2209680"/>
            <a:ext cx="2703600" cy="29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单位发展项目纳入项目库管理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,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主要指涉及学院内涵建设、基础设施建设以及队伍建设，并在规定金额标准（详见项目分类分级表）以上的项目，人员经费、日常维持经费、科研业务经费等项目一般不纳入项目库管理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13" name="组合 117"/>
          <p:cNvGrpSpPr/>
          <p:nvPr/>
        </p:nvGrpSpPr>
        <p:grpSpPr>
          <a:xfrm>
            <a:off x="1341360" y="1495440"/>
            <a:ext cx="561960" cy="726840"/>
            <a:chOff x="1341360" y="1495440"/>
            <a:chExt cx="561960" cy="726840"/>
          </a:xfrm>
        </p:grpSpPr>
        <p:pic>
          <p:nvPicPr>
            <p:cNvPr id="1114" name="Freeform 5" descr=""/>
            <p:cNvPicPr/>
            <p:nvPr/>
          </p:nvPicPr>
          <p:blipFill>
            <a:blip r:embed="rId7"/>
            <a:stretch/>
          </p:blipFill>
          <p:spPr>
            <a:xfrm>
              <a:off x="1341360" y="1495440"/>
              <a:ext cx="561960" cy="4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5" name="文本框 59"/>
            <p:cNvSpPr/>
            <p:nvPr/>
          </p:nvSpPr>
          <p:spPr>
            <a:xfrm>
              <a:off x="1398960" y="1579680"/>
              <a:ext cx="3438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b850"/>
                  </a:solidFill>
                  <a:latin typeface="Impact"/>
                </a:rPr>
                <a:t>Q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16" name="组合 122"/>
          <p:cNvGrpSpPr/>
          <p:nvPr/>
        </p:nvGrpSpPr>
        <p:grpSpPr>
          <a:xfrm>
            <a:off x="3562200" y="3544920"/>
            <a:ext cx="563760" cy="728640"/>
            <a:chOff x="3562200" y="3544920"/>
            <a:chExt cx="563760" cy="728640"/>
          </a:xfrm>
        </p:grpSpPr>
        <p:pic>
          <p:nvPicPr>
            <p:cNvPr id="1117" name="Freeform 5" descr=""/>
            <p:cNvPicPr/>
            <p:nvPr/>
          </p:nvPicPr>
          <p:blipFill>
            <a:blip r:embed="rId8"/>
            <a:stretch/>
          </p:blipFill>
          <p:spPr>
            <a:xfrm>
              <a:off x="3562200" y="3544920"/>
              <a:ext cx="563760" cy="42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8" name="文本框 62"/>
            <p:cNvSpPr/>
            <p:nvPr/>
          </p:nvSpPr>
          <p:spPr>
            <a:xfrm>
              <a:off x="3623400" y="3630960"/>
              <a:ext cx="3452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1acbe"/>
                  </a:solidFill>
                  <a:latin typeface="Impact"/>
                </a:rPr>
                <a:t>Q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19" name="圆角矩形 79" descr=""/>
          <p:cNvPicPr/>
          <p:nvPr/>
        </p:nvPicPr>
        <p:blipFill>
          <a:blip r:embed="rId9"/>
          <a:stretch/>
        </p:blipFill>
        <p:spPr>
          <a:xfrm>
            <a:off x="2771640" y="0"/>
            <a:ext cx="3584880" cy="493560"/>
          </a:xfrm>
          <a:prstGeom prst="rect">
            <a:avLst/>
          </a:prstGeom>
          <a:ln w="0">
            <a:noFill/>
          </a:ln>
        </p:spPr>
      </p:pic>
      <p:sp>
        <p:nvSpPr>
          <p:cNvPr id="1120" name="矩形 1"/>
          <p:cNvSpPr/>
          <p:nvPr/>
        </p:nvSpPr>
        <p:spPr>
          <a:xfrm>
            <a:off x="5037120" y="1177920"/>
            <a:ext cx="341172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申报部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根据本部门工作职责和学院发展需要提出项目支出预算，开展项目前期准备工作和项目自评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符合条件的项目择优筛选后向财务部门申报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对项目申报材料的真实性、准确性和完整性负责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协助财务部门组织开展项目评审论证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5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项目执行完成后，及时向财务部门报送项目实施情况和绩效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财务部门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制定和完善项目库管理制度、办法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牵头组织开展项目评审入库工作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开展已完成项目的绩效评价工作；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定期组织开展项目库清理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1500"/>
                            </p:stCondLst>
                            <p:childTnLst>
                              <p:par>
                                <p:cTn id="48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/>
                                        <p:tgtEl>
                                          <p:spTgt spid="1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500"/>
                                        <p:tgtEl>
                                          <p:spTgt spid="1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3" dur="500"/>
                                        <p:tgtEl>
                                          <p:spTgt spid="1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5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0"/>
                                        <p:tgtEl>
                                          <p:spTgt spid="1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0" dur="500"/>
                                        <p:tgtEl>
                                          <p:spTgt spid="1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1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122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123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124" name="图片 8" descr=""/>
          <p:cNvPicPr/>
          <p:nvPr/>
        </p:nvPicPr>
        <p:blipFill>
          <a:blip r:embed="rId4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pic>
        <p:nvPicPr>
          <p:cNvPr id="1125" name="矩形 71" descr=""/>
          <p:cNvPicPr/>
          <p:nvPr/>
        </p:nvPicPr>
        <p:blipFill>
          <a:blip r:embed="rId5"/>
          <a:stretch/>
        </p:blipFill>
        <p:spPr>
          <a:xfrm>
            <a:off x="1351080" y="1216080"/>
            <a:ext cx="2662200" cy="2225520"/>
          </a:xfrm>
          <a:prstGeom prst="rect">
            <a:avLst/>
          </a:prstGeom>
          <a:ln w="0">
            <a:noFill/>
          </a:ln>
        </p:spPr>
      </p:pic>
      <p:pic>
        <p:nvPicPr>
          <p:cNvPr id="1126" name="矩形 73" descr=""/>
          <p:cNvPicPr/>
          <p:nvPr/>
        </p:nvPicPr>
        <p:blipFill>
          <a:blip r:embed="rId6"/>
          <a:stretch/>
        </p:blipFill>
        <p:spPr>
          <a:xfrm>
            <a:off x="5457960" y="941400"/>
            <a:ext cx="3352680" cy="3517920"/>
          </a:xfrm>
          <a:prstGeom prst="rect">
            <a:avLst/>
          </a:prstGeom>
          <a:ln w="0">
            <a:noFill/>
          </a:ln>
        </p:spPr>
      </p:pic>
      <p:grpSp>
        <p:nvGrpSpPr>
          <p:cNvPr id="1127" name="组合 95"/>
          <p:cNvGrpSpPr/>
          <p:nvPr/>
        </p:nvGrpSpPr>
        <p:grpSpPr>
          <a:xfrm>
            <a:off x="4398840" y="2099880"/>
            <a:ext cx="761040" cy="604440"/>
            <a:chOff x="4398840" y="2099880"/>
            <a:chExt cx="761040" cy="604440"/>
          </a:xfrm>
        </p:grpSpPr>
        <p:grpSp>
          <p:nvGrpSpPr>
            <p:cNvPr id="1128" name="组合 96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29" name="文本框 72"/>
            <p:cNvSpPr/>
            <p:nvPr/>
          </p:nvSpPr>
          <p:spPr>
            <a:xfrm>
              <a:off x="4398840" y="2099880"/>
              <a:ext cx="761040" cy="604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2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项目库管理的内容包括哪些？</a:t>
              </a:r>
              <a:endParaRPr b="0" lang="en-US" sz="12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0" name="组合 102"/>
          <p:cNvGrpSpPr/>
          <p:nvPr/>
        </p:nvGrpSpPr>
        <p:grpSpPr>
          <a:xfrm>
            <a:off x="483480" y="1092600"/>
            <a:ext cx="747000" cy="778680"/>
            <a:chOff x="483480" y="1092600"/>
            <a:chExt cx="747000" cy="778680"/>
          </a:xfrm>
        </p:grpSpPr>
        <p:grpSp>
          <p:nvGrpSpPr>
            <p:cNvPr id="1131" name="组合 103"/>
            <p:cNvGrpSpPr/>
            <p:nvPr/>
          </p:nvGrpSpPr>
          <p:grpSpPr>
            <a:xfrm>
              <a:off x="0" y="0"/>
              <a:ext cx="0" cy="0"/>
              <a:chOff x="0" y="0"/>
              <a:chExt cx="0" cy="0"/>
            </a:xfrm>
          </p:grpSpPr>
        </p:grpSp>
        <p:sp>
          <p:nvSpPr>
            <p:cNvPr id="1132" name="文本框 72"/>
            <p:cNvSpPr/>
            <p:nvPr/>
          </p:nvSpPr>
          <p:spPr>
            <a:xfrm>
              <a:off x="483480" y="1092600"/>
              <a:ext cx="747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000" spc="-1" strike="noStrike">
                  <a:solidFill>
                    <a:srgbClr val="0000ff"/>
                  </a:solidFill>
                  <a:latin typeface="微软雅黑"/>
                  <a:ea typeface="微软雅黑"/>
                </a:rPr>
                <a:t>项目库管理涉及哪些部门，承担哪些责任？</a:t>
              </a:r>
              <a:endParaRPr b="0" lang="en-US" sz="1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33" name="矩形 115"/>
          <p:cNvSpPr/>
          <p:nvPr/>
        </p:nvSpPr>
        <p:spPr>
          <a:xfrm>
            <a:off x="5435640" y="984240"/>
            <a:ext cx="3362400" cy="11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经过院务会审定的项目，财务处纳入院级项目库管理，通过校园网向项目负责部门或负责人反馈项目入库情况，包括：项目审定建设规模、经费预算、入库时间、结项时间以及其他需要告知的事项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财务处建立动态管理项目数据库，原则上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每半年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定期反馈项目执行进度情况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3.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已经结项的项目，项目负责部门或项目负责人应对项目进行绩效评价，并在结项的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个月内向财务处报送项目绩效评价报告，完成项目结项出库工作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4.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对项目完成后的结余经费，以及超过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个年度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仍未完成且无特殊原因的逾期项目经费，经报院领导同意后由财务部门统一收回，在学院范围内统筹安排使用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5.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已入库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年以上</a:t>
            </a:r>
            <a:r>
              <a:rPr b="0" lang="zh-CN" sz="1200" spc="-1" strike="noStrike">
                <a:solidFill>
                  <a:srgbClr val="404040"/>
                </a:solidFill>
                <a:latin typeface="微软雅黑"/>
                <a:ea typeface="微软雅黑"/>
              </a:rPr>
              <a:t>仍未启动的项目，如果确有继续建设的必要，应当视同新项目，重新履行申报论证手续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4" name="矩形 116"/>
          <p:cNvSpPr/>
          <p:nvPr/>
        </p:nvSpPr>
        <p:spPr>
          <a:xfrm>
            <a:off x="1539720" y="1368360"/>
            <a:ext cx="2381400" cy="131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38520" rIns="38520" tIns="19440" bIns="194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级项目库实行滚动申报、定期审核。财务部门每年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3-4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月份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组织开展项目库申报评审工作，凡未申报项目库管理的项目或未通过项目库评审的项目原则上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不予编入年度部门预算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.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院级项目库由财务部门负责日常管理，纳入项目库管理的项目因情况变化需要调整的，申报项目的部门应及时</a:t>
            </a:r>
            <a:r>
              <a:rPr b="0" lang="zh-CN" sz="1200" spc="-1" strike="noStrike">
                <a:solidFill>
                  <a:srgbClr val="ff0000"/>
                </a:solidFill>
                <a:latin typeface="微软雅黑"/>
                <a:ea typeface="微软雅黑"/>
              </a:rPr>
              <a:t>以书面形式向财务部门申请变更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35" name="组合 127"/>
          <p:cNvGrpSpPr/>
          <p:nvPr/>
        </p:nvGrpSpPr>
        <p:grpSpPr>
          <a:xfrm>
            <a:off x="736560" y="1679400"/>
            <a:ext cx="920880" cy="870120"/>
            <a:chOff x="736560" y="1679400"/>
            <a:chExt cx="920880" cy="870120"/>
          </a:xfrm>
        </p:grpSpPr>
        <p:pic>
          <p:nvPicPr>
            <p:cNvPr id="1136" name="Freeform 5" descr=""/>
            <p:cNvPicPr/>
            <p:nvPr/>
          </p:nvPicPr>
          <p:blipFill>
            <a:blip r:embed="rId7"/>
            <a:stretch/>
          </p:blipFill>
          <p:spPr>
            <a:xfrm>
              <a:off x="736560" y="1679400"/>
              <a:ext cx="920880" cy="870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37" name="文本框 65"/>
            <p:cNvSpPr/>
            <p:nvPr/>
          </p:nvSpPr>
          <p:spPr>
            <a:xfrm>
              <a:off x="834480" y="1839240"/>
              <a:ext cx="564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e87071"/>
                  </a:solidFill>
                  <a:latin typeface="Impact"/>
                </a:rPr>
                <a:t>Q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8" name="组合 132"/>
          <p:cNvGrpSpPr/>
          <p:nvPr/>
        </p:nvGrpSpPr>
        <p:grpSpPr>
          <a:xfrm>
            <a:off x="4075200" y="2760840"/>
            <a:ext cx="919080" cy="869760"/>
            <a:chOff x="4075200" y="2760840"/>
            <a:chExt cx="919080" cy="869760"/>
          </a:xfrm>
        </p:grpSpPr>
        <p:pic>
          <p:nvPicPr>
            <p:cNvPr id="1139" name="Freeform 5" descr=""/>
            <p:cNvPicPr/>
            <p:nvPr/>
          </p:nvPicPr>
          <p:blipFill>
            <a:blip r:embed="rId8"/>
            <a:stretch/>
          </p:blipFill>
          <p:spPr>
            <a:xfrm>
              <a:off x="4075200" y="2760840"/>
              <a:ext cx="919080" cy="869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0" name="文本框 68"/>
            <p:cNvSpPr/>
            <p:nvPr/>
          </p:nvSpPr>
          <p:spPr>
            <a:xfrm>
              <a:off x="4172400" y="2937960"/>
              <a:ext cx="56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663a77"/>
                  </a:solidFill>
                  <a:latin typeface="Impact"/>
                </a:rPr>
                <a:t>Q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pic>
        <p:nvPicPr>
          <p:cNvPr id="1141" name="圆角矩形 79" descr=""/>
          <p:cNvPicPr/>
          <p:nvPr/>
        </p:nvPicPr>
        <p:blipFill>
          <a:blip r:embed="rId9"/>
          <a:stretch/>
        </p:blipFill>
        <p:spPr>
          <a:xfrm>
            <a:off x="2771640" y="0"/>
            <a:ext cx="3584880" cy="4935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1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" dur="500"/>
                                        <p:tgtEl>
                                          <p:spTgt spid="1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000"/>
                            </p:stCondLst>
                            <p:childTnLst>
                              <p:par>
                                <p:cTn id="87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" nodeType="after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/>
                                        <p:tgtEl>
                                          <p:spTgt spid="1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" dur="500"/>
                                        <p:tgtEl>
                                          <p:spTgt spid="1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/>
                                        <p:tgtEl>
                                          <p:spTgt spid="1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1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500"/>
                            </p:stCondLst>
                            <p:childTnLst>
                              <p:par>
                                <p:cTn id="112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143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144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145" name="圆角矩形 79" descr=""/>
          <p:cNvPicPr/>
          <p:nvPr/>
        </p:nvPicPr>
        <p:blipFill>
          <a:blip r:embed="rId4"/>
          <a:stretch/>
        </p:blipFill>
        <p:spPr>
          <a:xfrm>
            <a:off x="2803680" y="71280"/>
            <a:ext cx="3584520" cy="495360"/>
          </a:xfrm>
          <a:prstGeom prst="rect">
            <a:avLst/>
          </a:prstGeom>
          <a:ln w="0">
            <a:noFill/>
          </a:ln>
        </p:spPr>
      </p:pic>
      <p:grpSp>
        <p:nvGrpSpPr>
          <p:cNvPr id="1146" name="组合 146"/>
          <p:cNvGrpSpPr/>
          <p:nvPr/>
        </p:nvGrpSpPr>
        <p:grpSpPr>
          <a:xfrm>
            <a:off x="345960" y="901800"/>
            <a:ext cx="142920" cy="3470040"/>
            <a:chOff x="345960" y="901800"/>
            <a:chExt cx="142920" cy="3470040"/>
          </a:xfrm>
        </p:grpSpPr>
        <p:sp>
          <p:nvSpPr>
            <p:cNvPr id="1147" name="矩形 147"/>
            <p:cNvSpPr/>
            <p:nvPr/>
          </p:nvSpPr>
          <p:spPr>
            <a:xfrm>
              <a:off x="345960" y="901800"/>
              <a:ext cx="142920" cy="666000"/>
            </a:xfrm>
            <a:prstGeom prst="rect">
              <a:avLst/>
            </a:prstGeom>
            <a:solidFill>
              <a:srgbClr val="ffb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8" name="矩形 148"/>
            <p:cNvSpPr/>
            <p:nvPr/>
          </p:nvSpPr>
          <p:spPr>
            <a:xfrm>
              <a:off x="345960" y="1567800"/>
              <a:ext cx="142920" cy="707760"/>
            </a:xfrm>
            <a:prstGeom prst="rect">
              <a:avLst/>
            </a:prstGeom>
            <a:solidFill>
              <a:srgbClr val="e8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9" name="矩形 149"/>
            <p:cNvSpPr/>
            <p:nvPr/>
          </p:nvSpPr>
          <p:spPr>
            <a:xfrm>
              <a:off x="345960" y="2274120"/>
              <a:ext cx="142920" cy="708480"/>
            </a:xfrm>
            <a:prstGeom prst="rect">
              <a:avLst/>
            </a:prstGeom>
            <a:solidFill>
              <a:srgbClr val="01a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0" name="矩形 150"/>
            <p:cNvSpPr/>
            <p:nvPr/>
          </p:nvSpPr>
          <p:spPr>
            <a:xfrm>
              <a:off x="345960" y="2981880"/>
              <a:ext cx="142920" cy="707760"/>
            </a:xfrm>
            <a:prstGeom prst="rect">
              <a:avLst/>
            </a:prstGeom>
            <a:solidFill>
              <a:srgbClr val="00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1" name="矩形 151"/>
            <p:cNvSpPr/>
            <p:nvPr/>
          </p:nvSpPr>
          <p:spPr>
            <a:xfrm>
              <a:off x="345960" y="3690000"/>
              <a:ext cx="142920" cy="681840"/>
            </a:xfrm>
            <a:prstGeom prst="rect">
              <a:avLst/>
            </a:prstGeom>
            <a:solidFill>
              <a:srgbClr val="66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52" name="组合 38"/>
          <p:cNvGrpSpPr/>
          <p:nvPr/>
        </p:nvGrpSpPr>
        <p:grpSpPr>
          <a:xfrm>
            <a:off x="8569440" y="900000"/>
            <a:ext cx="142920" cy="3470400"/>
            <a:chOff x="8569440" y="900000"/>
            <a:chExt cx="142920" cy="3470400"/>
          </a:xfrm>
        </p:grpSpPr>
        <p:sp>
          <p:nvSpPr>
            <p:cNvPr id="1153" name="矩形 39"/>
            <p:cNvSpPr/>
            <p:nvPr/>
          </p:nvSpPr>
          <p:spPr>
            <a:xfrm>
              <a:off x="8569440" y="900000"/>
              <a:ext cx="142920" cy="666000"/>
            </a:xfrm>
            <a:prstGeom prst="rect">
              <a:avLst/>
            </a:prstGeom>
            <a:solidFill>
              <a:srgbClr val="ffb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4" name="矩形 40"/>
            <p:cNvSpPr/>
            <p:nvPr/>
          </p:nvSpPr>
          <p:spPr>
            <a:xfrm>
              <a:off x="8569440" y="1566000"/>
              <a:ext cx="142920" cy="707760"/>
            </a:xfrm>
            <a:prstGeom prst="rect">
              <a:avLst/>
            </a:prstGeom>
            <a:solidFill>
              <a:srgbClr val="e8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5" name="矩形 41"/>
            <p:cNvSpPr/>
            <p:nvPr/>
          </p:nvSpPr>
          <p:spPr>
            <a:xfrm>
              <a:off x="8569440" y="2272320"/>
              <a:ext cx="142920" cy="708480"/>
            </a:xfrm>
            <a:prstGeom prst="rect">
              <a:avLst/>
            </a:prstGeom>
            <a:solidFill>
              <a:srgbClr val="01a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6" name="矩形 42"/>
            <p:cNvSpPr/>
            <p:nvPr/>
          </p:nvSpPr>
          <p:spPr>
            <a:xfrm>
              <a:off x="8569440" y="2980440"/>
              <a:ext cx="142920" cy="707760"/>
            </a:xfrm>
            <a:prstGeom prst="rect">
              <a:avLst/>
            </a:prstGeom>
            <a:solidFill>
              <a:srgbClr val="00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7" name="矩形 43"/>
            <p:cNvSpPr/>
            <p:nvPr/>
          </p:nvSpPr>
          <p:spPr>
            <a:xfrm>
              <a:off x="8569440" y="3688200"/>
              <a:ext cx="142920" cy="682200"/>
            </a:xfrm>
            <a:prstGeom prst="rect">
              <a:avLst/>
            </a:prstGeom>
            <a:solidFill>
              <a:srgbClr val="66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aphicFrame>
        <p:nvGraphicFramePr>
          <p:cNvPr id="1158" name=""/>
          <p:cNvGraphicFramePr/>
          <p:nvPr/>
        </p:nvGraphicFramePr>
        <p:xfrm>
          <a:off x="981000" y="1244520"/>
          <a:ext cx="7097760" cy="2855880"/>
        </p:xfrm>
        <a:graphic>
          <a:graphicData uri="http://schemas.openxmlformats.org/drawingml/2006/table">
            <a:tbl>
              <a:tblPr/>
              <a:tblGrid>
                <a:gridCol w="673200"/>
                <a:gridCol w="4257720"/>
                <a:gridCol w="2166840"/>
              </a:tblGrid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序号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项目类型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级别标准（含本数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房屋建筑物购置、基础设施建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5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校舍维修改造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3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33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办公设备、专用设备、交通工具、物资储备、图书等购置、信息网络购建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在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2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师资队伍建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9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学科建设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57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6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会议、培训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17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7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其他专项业务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预算经费</a:t>
                      </a: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10</a:t>
                      </a: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楷体"/>
                          <a:ea typeface="楷体"/>
                        </a:rPr>
                        <a:t>万元以上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p:transition spd="slow">
    <p:fade/>
  </p:transition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1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9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" dur="500"/>
                                        <p:tgtEl>
                                          <p:spTgt spid="1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fill="hold">
                            <p:stCondLst>
                              <p:cond delay="1400"/>
                            </p:stCondLst>
                            <p:childTnLst>
                              <p:par>
                                <p:cTn id="1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500"/>
                                        <p:tgtEl>
                                          <p:spTgt spid="1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9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160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161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162" name="图片 8" descr=""/>
          <p:cNvPicPr/>
          <p:nvPr/>
        </p:nvPicPr>
        <p:blipFill>
          <a:blip r:embed="rId4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pic>
        <p:nvPicPr>
          <p:cNvPr id="1163" name="圆角矩形 79" descr=""/>
          <p:cNvPicPr/>
          <p:nvPr/>
        </p:nvPicPr>
        <p:blipFill>
          <a:blip r:embed="rId5"/>
          <a:stretch/>
        </p:blipFill>
        <p:spPr>
          <a:xfrm>
            <a:off x="2803680" y="71280"/>
            <a:ext cx="3584520" cy="495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64" name=""/>
          <p:cNvGraphicFramePr/>
          <p:nvPr/>
        </p:nvGraphicFramePr>
        <p:xfrm>
          <a:off x="3036960" y="1144440"/>
          <a:ext cx="2735280" cy="3117960"/>
        </p:xfrm>
        <a:graphic>
          <a:graphicData uri="http://schemas.openxmlformats.org/drawingml/2006/table">
            <a:tbl>
              <a:tblPr/>
              <a:tblGrid>
                <a:gridCol w="208080"/>
                <a:gridCol w="750600"/>
                <a:gridCol w="1776600"/>
              </a:tblGrid>
              <a:tr h="428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名称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具体内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733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基本情况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名称、项目属性、项目类型、立项时间、开始实施时间、预计完成时间、设立依据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6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内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项目具体情况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资金安排（预算方案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专项资金具体用途（基建维修项目填报项目支出预算表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50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绩效目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专项设立需要达到的具体社会或经济目标（填报绩效评价表）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5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其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1165" name=""/>
          <p:cNvGraphicFramePr/>
          <p:nvPr/>
        </p:nvGraphicFramePr>
        <p:xfrm>
          <a:off x="6019920" y="1174680"/>
          <a:ext cx="2973240" cy="3087720"/>
        </p:xfrm>
        <a:graphic>
          <a:graphicData uri="http://schemas.openxmlformats.org/drawingml/2006/table">
            <a:tbl>
              <a:tblPr/>
              <a:tblGrid>
                <a:gridCol w="208080"/>
                <a:gridCol w="734760"/>
                <a:gridCol w="2030400"/>
              </a:tblGrid>
              <a:tr h="378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总体目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具体目标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10332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指向明确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要符合国民经济和社会发展规划、部门职能及事业发展规划，并与相应的财政支出范围、方向、效果紧密相关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89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具体细化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应当从数量、质量、成本和时效等方面进行细化，尽量进行定量表述，不能以量化形式表述的，可以采用定性的分级分档形式表述；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72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合理可行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要经过调查研究和科学论证，符合客观实际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4320">
                      <a:solidFill>
                        <a:srgbClr val="00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66" name="组合 5"/>
          <p:cNvGrpSpPr/>
          <p:nvPr/>
        </p:nvGrpSpPr>
        <p:grpSpPr>
          <a:xfrm>
            <a:off x="5894280" y="809640"/>
            <a:ext cx="76320" cy="3638520"/>
            <a:chOff x="5894280" y="809640"/>
            <a:chExt cx="76320" cy="3638520"/>
          </a:xfrm>
        </p:grpSpPr>
        <p:sp>
          <p:nvSpPr>
            <p:cNvPr id="1167" name="矩形 6"/>
            <p:cNvSpPr/>
            <p:nvPr/>
          </p:nvSpPr>
          <p:spPr>
            <a:xfrm>
              <a:off x="5894280" y="809640"/>
              <a:ext cx="76320" cy="698400"/>
            </a:xfrm>
            <a:prstGeom prst="rect">
              <a:avLst/>
            </a:prstGeom>
            <a:solidFill>
              <a:srgbClr val="ffb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8" name="矩形 7"/>
            <p:cNvSpPr/>
            <p:nvPr/>
          </p:nvSpPr>
          <p:spPr>
            <a:xfrm>
              <a:off x="5894280" y="1508040"/>
              <a:ext cx="76320" cy="741960"/>
            </a:xfrm>
            <a:prstGeom prst="rect">
              <a:avLst/>
            </a:prstGeom>
            <a:solidFill>
              <a:srgbClr val="e8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9" name="矩形 8"/>
            <p:cNvSpPr/>
            <p:nvPr/>
          </p:nvSpPr>
          <p:spPr>
            <a:xfrm>
              <a:off x="5894280" y="2248560"/>
              <a:ext cx="76320" cy="743040"/>
            </a:xfrm>
            <a:prstGeom prst="rect">
              <a:avLst/>
            </a:prstGeom>
            <a:solidFill>
              <a:srgbClr val="01a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0" name="矩形 9"/>
            <p:cNvSpPr/>
            <p:nvPr/>
          </p:nvSpPr>
          <p:spPr>
            <a:xfrm>
              <a:off x="5894280" y="2990880"/>
              <a:ext cx="76320" cy="741960"/>
            </a:xfrm>
            <a:prstGeom prst="rect">
              <a:avLst/>
            </a:prstGeom>
            <a:solidFill>
              <a:srgbClr val="00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1" name="矩形 10"/>
            <p:cNvSpPr/>
            <p:nvPr/>
          </p:nvSpPr>
          <p:spPr>
            <a:xfrm>
              <a:off x="5894280" y="3733200"/>
              <a:ext cx="76320" cy="714960"/>
            </a:xfrm>
            <a:prstGeom prst="rect">
              <a:avLst/>
            </a:prstGeom>
            <a:solidFill>
              <a:srgbClr val="66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72" name="文本框 99"/>
          <p:cNvSpPr/>
          <p:nvPr/>
        </p:nvSpPr>
        <p:spPr>
          <a:xfrm>
            <a:off x="3484440" y="809640"/>
            <a:ext cx="194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申请书填报要素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3" name="文本框 99"/>
          <p:cNvSpPr/>
          <p:nvPr/>
        </p:nvSpPr>
        <p:spPr>
          <a:xfrm>
            <a:off x="714240" y="809640"/>
            <a:ext cx="164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部门申报要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4" name="文本框 99"/>
          <p:cNvSpPr/>
          <p:nvPr/>
        </p:nvSpPr>
        <p:spPr>
          <a:xfrm>
            <a:off x="6804000" y="809640"/>
            <a:ext cx="163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宋体"/>
              </a:rPr>
              <a:t>绩效目标要求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175" name=""/>
          <p:cNvGraphicFramePr/>
          <p:nvPr/>
        </p:nvGraphicFramePr>
        <p:xfrm>
          <a:off x="155520" y="1174680"/>
          <a:ext cx="2597040" cy="3087720"/>
        </p:xfrm>
        <a:graphic>
          <a:graphicData uri="http://schemas.openxmlformats.org/drawingml/2006/table">
            <a:tbl>
              <a:tblPr/>
              <a:tblGrid>
                <a:gridCol w="196920"/>
                <a:gridCol w="2400120"/>
              </a:tblGrid>
              <a:tr h="3286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具体内容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</a:tr>
              <a:tr h="4158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1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符合国家有关方针政策，符合法律、法规的规定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6825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2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符合学院资金支持的方向和资金供给的范围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5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3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申报的项目要与学院以及本部门中长期事业发展规划相结合，跨年度项目需提出分年实施计划；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8301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ffffff"/>
                          </a:solidFill>
                          <a:latin typeface="宋体"/>
                        </a:rPr>
                        <a:t>4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5760">
                      <a:solidFill>
                        <a:srgbClr val="08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有明确的政策目标、完备的实施计划和科学合理的项目预算，并经过必要性和可行性研究、论证。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ctr">
                    <a:lnL w="5760">
                      <a:solidFill>
                        <a:srgbClr val="080000"/>
                      </a:solidFill>
                    </a:lnL>
                    <a:lnR w="4320">
                      <a:solidFill>
                        <a:srgbClr val="000000"/>
                      </a:solidFill>
                    </a:lnR>
                    <a:lnT w="5760">
                      <a:solidFill>
                        <a:srgbClr val="080000"/>
                      </a:solidFill>
                    </a:lnT>
                    <a:lnB w="5760">
                      <a:solidFill>
                        <a:srgbClr val="08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pSp>
        <p:nvGrpSpPr>
          <p:cNvPr id="1176" name="组合 14"/>
          <p:cNvGrpSpPr/>
          <p:nvPr/>
        </p:nvGrpSpPr>
        <p:grpSpPr>
          <a:xfrm>
            <a:off x="2803680" y="809640"/>
            <a:ext cx="75960" cy="3638520"/>
            <a:chOff x="2803680" y="809640"/>
            <a:chExt cx="75960" cy="3638520"/>
          </a:xfrm>
        </p:grpSpPr>
        <p:sp>
          <p:nvSpPr>
            <p:cNvPr id="1177" name="矩形 15"/>
            <p:cNvSpPr/>
            <p:nvPr/>
          </p:nvSpPr>
          <p:spPr>
            <a:xfrm>
              <a:off x="2803680" y="809640"/>
              <a:ext cx="75960" cy="698400"/>
            </a:xfrm>
            <a:prstGeom prst="rect">
              <a:avLst/>
            </a:prstGeom>
            <a:solidFill>
              <a:srgbClr val="ffb85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8" name="矩形 16"/>
            <p:cNvSpPr/>
            <p:nvPr/>
          </p:nvSpPr>
          <p:spPr>
            <a:xfrm>
              <a:off x="2803680" y="1508040"/>
              <a:ext cx="75960" cy="741960"/>
            </a:xfrm>
            <a:prstGeom prst="rect">
              <a:avLst/>
            </a:prstGeom>
            <a:solidFill>
              <a:srgbClr val="e8707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9" name="矩形 17"/>
            <p:cNvSpPr/>
            <p:nvPr/>
          </p:nvSpPr>
          <p:spPr>
            <a:xfrm>
              <a:off x="2803680" y="2248560"/>
              <a:ext cx="75960" cy="743040"/>
            </a:xfrm>
            <a:prstGeom prst="rect">
              <a:avLst/>
            </a:prstGeom>
            <a:solidFill>
              <a:srgbClr val="01acb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0" name="矩形 18"/>
            <p:cNvSpPr/>
            <p:nvPr/>
          </p:nvSpPr>
          <p:spPr>
            <a:xfrm>
              <a:off x="2803680" y="2990880"/>
              <a:ext cx="75960" cy="741960"/>
            </a:xfrm>
            <a:prstGeom prst="rect">
              <a:avLst/>
            </a:prstGeom>
            <a:solidFill>
              <a:srgbClr val="00af9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1" name="矩形 19"/>
            <p:cNvSpPr/>
            <p:nvPr/>
          </p:nvSpPr>
          <p:spPr>
            <a:xfrm>
              <a:off x="2803680" y="3733200"/>
              <a:ext cx="75960" cy="714960"/>
            </a:xfrm>
            <a:prstGeom prst="rect">
              <a:avLst/>
            </a:prstGeom>
            <a:solidFill>
              <a:srgbClr val="663a7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slow">
    <p:fad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500"/>
                                        <p:tgtEl>
                                          <p:spTgt spid="1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900"/>
                            </p:stCondLst>
                            <p:childTnLst>
                              <p:par>
                                <p:cTn id="1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1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400"/>
                            </p:stCondLst>
                            <p:childTnLst>
                              <p:par>
                                <p:cTn id="1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4" dur="500"/>
                                        <p:tgtEl>
                                          <p:spTgt spid="1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900"/>
                            </p:stCondLst>
                            <p:childTnLst>
                              <p:par>
                                <p:cTn id="1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2400"/>
                            </p:stCondLst>
                            <p:childTnLst>
                              <p:par>
                                <p:cTn id="15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900"/>
                            </p:stCondLst>
                            <p:childTnLst>
                              <p:par>
                                <p:cTn id="16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2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183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184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pic>
        <p:nvPicPr>
          <p:cNvPr id="1185" name="图片 8" descr=""/>
          <p:cNvPicPr/>
          <p:nvPr/>
        </p:nvPicPr>
        <p:blipFill>
          <a:blip r:embed="rId4"/>
          <a:stretch/>
        </p:blipFill>
        <p:spPr>
          <a:xfrm>
            <a:off x="6588000" y="4633920"/>
            <a:ext cx="517680" cy="509760"/>
          </a:xfrm>
          <a:prstGeom prst="rect">
            <a:avLst/>
          </a:prstGeom>
          <a:ln w="0">
            <a:noFill/>
          </a:ln>
        </p:spPr>
      </p:pic>
      <p:pic>
        <p:nvPicPr>
          <p:cNvPr id="1186" name="圆角矩形 79" descr=""/>
          <p:cNvPicPr/>
          <p:nvPr/>
        </p:nvPicPr>
        <p:blipFill>
          <a:blip r:embed="rId5"/>
          <a:stretch/>
        </p:blipFill>
        <p:spPr>
          <a:xfrm>
            <a:off x="2779560" y="57240"/>
            <a:ext cx="3583080" cy="495360"/>
          </a:xfrm>
          <a:prstGeom prst="rect">
            <a:avLst/>
          </a:prstGeom>
          <a:ln w="0">
            <a:noFill/>
          </a:ln>
        </p:spPr>
      </p:pic>
      <p:sp>
        <p:nvSpPr>
          <p:cNvPr id="1187" name="圆角矩形 17"/>
          <p:cNvSpPr/>
          <p:nvPr/>
        </p:nvSpPr>
        <p:spPr>
          <a:xfrm>
            <a:off x="301680" y="1162080"/>
            <a:ext cx="3610080" cy="90972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8" name="椭圆 19"/>
          <p:cNvSpPr/>
          <p:nvPr/>
        </p:nvSpPr>
        <p:spPr>
          <a:xfrm>
            <a:off x="3924360" y="1131840"/>
            <a:ext cx="519120" cy="48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9" name="文本框 20"/>
          <p:cNvSpPr/>
          <p:nvPr/>
        </p:nvSpPr>
        <p:spPr>
          <a:xfrm>
            <a:off x="4067280" y="1177920"/>
            <a:ext cx="241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0" name="圆角矩形 21"/>
          <p:cNvSpPr/>
          <p:nvPr/>
        </p:nvSpPr>
        <p:spPr>
          <a:xfrm>
            <a:off x="301680" y="2716200"/>
            <a:ext cx="3610080" cy="9111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1" name="椭圆 22"/>
          <p:cNvSpPr/>
          <p:nvPr/>
        </p:nvSpPr>
        <p:spPr>
          <a:xfrm>
            <a:off x="3924360" y="2711520"/>
            <a:ext cx="519120" cy="48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2" name="文本框 23"/>
          <p:cNvSpPr/>
          <p:nvPr/>
        </p:nvSpPr>
        <p:spPr>
          <a:xfrm>
            <a:off x="4067280" y="2757600"/>
            <a:ext cx="241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3" name="直接连接符 27"/>
          <p:cNvSpPr/>
          <p:nvPr/>
        </p:nvSpPr>
        <p:spPr>
          <a:xfrm>
            <a:off x="4572000" y="809640"/>
            <a:ext cx="0" cy="36385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4" name="圆角矩形 28"/>
          <p:cNvSpPr/>
          <p:nvPr/>
        </p:nvSpPr>
        <p:spPr>
          <a:xfrm>
            <a:off x="5167440" y="1649520"/>
            <a:ext cx="3608280" cy="9111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5" name="椭圆 29"/>
          <p:cNvSpPr/>
          <p:nvPr/>
        </p:nvSpPr>
        <p:spPr>
          <a:xfrm>
            <a:off x="4643280" y="2071800"/>
            <a:ext cx="519120" cy="487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6" name="文本框 30"/>
          <p:cNvSpPr/>
          <p:nvPr/>
        </p:nvSpPr>
        <p:spPr>
          <a:xfrm>
            <a:off x="4788000" y="2116080"/>
            <a:ext cx="23976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7" name="圆角矩形 31"/>
          <p:cNvSpPr/>
          <p:nvPr/>
        </p:nvSpPr>
        <p:spPr>
          <a:xfrm>
            <a:off x="5189400" y="3203640"/>
            <a:ext cx="3608640" cy="911160"/>
          </a:xfrm>
          <a:prstGeom prst="roundRect">
            <a:avLst>
              <a:gd name="adj" fmla="val 16667"/>
            </a:avLst>
          </a:prstGeom>
          <a:solidFill>
            <a:srgbClr val="dadada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8" name="椭圆 32"/>
          <p:cNvSpPr/>
          <p:nvPr/>
        </p:nvSpPr>
        <p:spPr>
          <a:xfrm>
            <a:off x="4648320" y="3627360"/>
            <a:ext cx="519120" cy="4874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9" name="文本框 36"/>
          <p:cNvSpPr/>
          <p:nvPr/>
        </p:nvSpPr>
        <p:spPr>
          <a:xfrm>
            <a:off x="4788000" y="3641760"/>
            <a:ext cx="241200" cy="3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微软雅黑"/>
                <a:ea typeface="微软雅黑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0" name="文本框 40"/>
          <p:cNvSpPr/>
          <p:nvPr/>
        </p:nvSpPr>
        <p:spPr>
          <a:xfrm>
            <a:off x="501480" y="907920"/>
            <a:ext cx="14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项目申报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1" name="文本框 41"/>
          <p:cNvSpPr/>
          <p:nvPr/>
        </p:nvSpPr>
        <p:spPr>
          <a:xfrm>
            <a:off x="5189400" y="1314360"/>
            <a:ext cx="14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项目评审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2" name="文本框 42"/>
          <p:cNvSpPr/>
          <p:nvPr/>
        </p:nvSpPr>
        <p:spPr>
          <a:xfrm>
            <a:off x="468360" y="2424240"/>
            <a:ext cx="147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预算安排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3" name="文本框 43"/>
          <p:cNvSpPr/>
          <p:nvPr/>
        </p:nvSpPr>
        <p:spPr>
          <a:xfrm>
            <a:off x="5189400" y="2894040"/>
            <a:ext cx="1474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项目实施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4" name="文本框 1"/>
          <p:cNvSpPr/>
          <p:nvPr/>
        </p:nvSpPr>
        <p:spPr>
          <a:xfrm>
            <a:off x="382680" y="1212840"/>
            <a:ext cx="344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各部门按照要求，开展项目库申报工作。项目条件成熟的，有一个申报一个；申报前应做好前期准备和项目自评，形成自评报告，并报经分管院领导审批同意。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5" name="文本框 2"/>
          <p:cNvSpPr/>
          <p:nvPr/>
        </p:nvSpPr>
        <p:spPr>
          <a:xfrm>
            <a:off x="301680" y="2720880"/>
            <a:ext cx="3610080" cy="50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计划安排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：财务处编制下一年度预算时，根据学院发展规划、财力、项目缓急程度，原则上从项目库中筛选项目，列入年度部门预算，经院领导审批后，上报省财政厅批准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）</a:t>
            </a:r>
            <a:r>
              <a:rPr b="0" lang="zh-CN" sz="1000" spc="-1" strike="noStrike">
                <a:solidFill>
                  <a:srgbClr val="ff0000"/>
                </a:solidFill>
                <a:latin typeface="Times New Roman"/>
              </a:rPr>
              <a:t>专项安排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：对于上级主管部门交办或学院临时性、突发性或应急性重大项目，各部门应按规定专项申报，经分管院领导同意，报财务部门审核论证后，及时纳入项目库管理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6" name="文本框 5"/>
          <p:cNvSpPr/>
          <p:nvPr/>
        </p:nvSpPr>
        <p:spPr>
          <a:xfrm>
            <a:off x="5273640" y="1754280"/>
            <a:ext cx="344160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于按规定申报的项目，由财务处组织集中筛选、论证和审核；预算金额</a:t>
            </a:r>
            <a:r>
              <a:rPr b="0" lang="zh-CN" sz="1000" spc="-1" strike="noStrike">
                <a:solidFill>
                  <a:srgbClr val="ff0033"/>
                </a:solidFill>
                <a:latin typeface="Times New Roman"/>
              </a:rPr>
              <a:t>100</a:t>
            </a:r>
            <a:r>
              <a:rPr b="0" lang="zh-CN" sz="1000" spc="-1" strike="noStrike">
                <a:solidFill>
                  <a:srgbClr val="ff0033"/>
                </a:solidFill>
                <a:latin typeface="Times New Roman"/>
              </a:rPr>
              <a:t>万元</a:t>
            </a: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以上的以及专业性强、复杂程度高的重大或有影响项目，可以组织专家或第三方中介论证评审，审核合格的项目纳入院级项目库管理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7" name="文本框 6"/>
          <p:cNvSpPr/>
          <p:nvPr/>
        </p:nvSpPr>
        <p:spPr>
          <a:xfrm>
            <a:off x="5273640" y="3340080"/>
            <a:ext cx="3387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Times New Roman"/>
              </a:rPr>
              <a:t>对于列入年度预算的项目，经省财政厅批复同意后，财务部门要及时将批复结果反馈申报部门；申报部门应抓紧按照既定方案组织实施，确保按期完成项目。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fade/>
  </p:transition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9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1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1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8" dur="500"/>
                                        <p:tgtEl>
                                          <p:spTgt spid="1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1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4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900"/>
                            </p:stCondLst>
                            <p:childTnLst>
                              <p:par>
                                <p:cTn id="19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24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2900"/>
                            </p:stCondLst>
                            <p:childTnLst>
                              <p:par>
                                <p:cTn id="21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2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5" dur="500"/>
                                        <p:tgtEl>
                                          <p:spTgt spid="1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3400"/>
                            </p:stCondLst>
                            <p:childTnLst>
                              <p:par>
                                <p:cTn id="22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3900"/>
                            </p:stCondLst>
                            <p:childTnLst>
                              <p:par>
                                <p:cTn id="23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400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4c4c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8" name="图片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640"/>
          </a:xfrm>
          <a:prstGeom prst="rect">
            <a:avLst/>
          </a:prstGeom>
          <a:ln w="0">
            <a:noFill/>
          </a:ln>
        </p:spPr>
      </p:pic>
      <p:pic>
        <p:nvPicPr>
          <p:cNvPr id="1209" name="图片 4" descr=""/>
          <p:cNvPicPr/>
          <p:nvPr/>
        </p:nvPicPr>
        <p:blipFill>
          <a:blip r:embed="rId2"/>
          <a:stretch/>
        </p:blipFill>
        <p:spPr>
          <a:xfrm>
            <a:off x="0" y="4448160"/>
            <a:ext cx="9144000" cy="695520"/>
          </a:xfrm>
          <a:prstGeom prst="rect">
            <a:avLst/>
          </a:prstGeom>
          <a:ln w="0">
            <a:noFill/>
          </a:ln>
        </p:spPr>
      </p:pic>
      <p:pic>
        <p:nvPicPr>
          <p:cNvPr id="1210" name="图片 6" descr=""/>
          <p:cNvPicPr/>
          <p:nvPr/>
        </p:nvPicPr>
        <p:blipFill>
          <a:blip r:embed="rId3"/>
          <a:stretch/>
        </p:blipFill>
        <p:spPr>
          <a:xfrm>
            <a:off x="7236000" y="4732200"/>
            <a:ext cx="1562040" cy="324000"/>
          </a:xfrm>
          <a:prstGeom prst="rect">
            <a:avLst/>
          </a:prstGeom>
          <a:ln w="0">
            <a:noFill/>
          </a:ln>
        </p:spPr>
      </p:pic>
      <p:sp>
        <p:nvSpPr>
          <p:cNvPr id="1211" name="文本框 70"/>
          <p:cNvSpPr/>
          <p:nvPr/>
        </p:nvSpPr>
        <p:spPr>
          <a:xfrm>
            <a:off x="1595520" y="858960"/>
            <a:ext cx="187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项目评审子流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2" name="文本框 1"/>
          <p:cNvSpPr/>
          <p:nvPr/>
        </p:nvSpPr>
        <p:spPr>
          <a:xfrm>
            <a:off x="1143000" y="1243080"/>
            <a:ext cx="1657440" cy="2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部门可行性论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3" name="文本框 2"/>
          <p:cNvSpPr/>
          <p:nvPr/>
        </p:nvSpPr>
        <p:spPr>
          <a:xfrm>
            <a:off x="585720" y="1141560"/>
            <a:ext cx="609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00000"/>
                </a:solidFill>
                <a:uFillTx/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4" name="文本框 19"/>
          <p:cNvSpPr/>
          <p:nvPr/>
        </p:nvSpPr>
        <p:spPr>
          <a:xfrm>
            <a:off x="1149480" y="1566720"/>
            <a:ext cx="2638440" cy="28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部门申报，填写《江苏警官学院项目库申请书》等资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5" name="文本框 20"/>
          <p:cNvSpPr/>
          <p:nvPr/>
        </p:nvSpPr>
        <p:spPr>
          <a:xfrm>
            <a:off x="585720" y="1541520"/>
            <a:ext cx="60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6" name="文本框 22"/>
          <p:cNvSpPr/>
          <p:nvPr/>
        </p:nvSpPr>
        <p:spPr>
          <a:xfrm>
            <a:off x="1143000" y="2043000"/>
            <a:ext cx="16574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财务预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7" name="文本框 23"/>
          <p:cNvSpPr/>
          <p:nvPr/>
        </p:nvSpPr>
        <p:spPr>
          <a:xfrm>
            <a:off x="585720" y="1941480"/>
            <a:ext cx="60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c000"/>
                </a:solidFill>
                <a:uFillTx/>
                <a:latin typeface="Times New Roman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8" name="文本框 15"/>
          <p:cNvSpPr/>
          <p:nvPr/>
        </p:nvSpPr>
        <p:spPr>
          <a:xfrm>
            <a:off x="1143000" y="2443320"/>
            <a:ext cx="16574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确定评审专家组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9" name="文本框 16"/>
          <p:cNvSpPr/>
          <p:nvPr/>
        </p:nvSpPr>
        <p:spPr>
          <a:xfrm>
            <a:off x="585720" y="2341440"/>
            <a:ext cx="609840" cy="4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00000"/>
                </a:solidFill>
                <a:uFillTx/>
                <a:latin typeface="Times New Roman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0" name="文本框 25"/>
          <p:cNvSpPr/>
          <p:nvPr/>
        </p:nvSpPr>
        <p:spPr>
          <a:xfrm>
            <a:off x="1143000" y="2843280"/>
            <a:ext cx="16574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专家评审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1" name="文本框 26"/>
          <p:cNvSpPr/>
          <p:nvPr/>
        </p:nvSpPr>
        <p:spPr>
          <a:xfrm>
            <a:off x="585720" y="2741760"/>
            <a:ext cx="609840" cy="42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2" name="文本框 27"/>
          <p:cNvSpPr/>
          <p:nvPr/>
        </p:nvSpPr>
        <p:spPr>
          <a:xfrm>
            <a:off x="1143000" y="3243240"/>
            <a:ext cx="1657440" cy="22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报院</a:t>
            </a: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务会审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3" name="文本框 28"/>
          <p:cNvSpPr/>
          <p:nvPr/>
        </p:nvSpPr>
        <p:spPr>
          <a:xfrm>
            <a:off x="585720" y="3141720"/>
            <a:ext cx="60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c000"/>
                </a:solidFill>
                <a:uFillTx/>
                <a:latin typeface="Times New Roman"/>
              </a:rPr>
              <a:t>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4" name="文本框 3"/>
          <p:cNvSpPr/>
          <p:nvPr/>
        </p:nvSpPr>
        <p:spPr>
          <a:xfrm>
            <a:off x="5526000" y="1174680"/>
            <a:ext cx="2673360" cy="3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Times New Roman"/>
              </a:rPr>
              <a:t>确定专家组组长，由组长主持论证评审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5" name="文本框 4"/>
          <p:cNvSpPr/>
          <p:nvPr/>
        </p:nvSpPr>
        <p:spPr>
          <a:xfrm>
            <a:off x="4908600" y="1090440"/>
            <a:ext cx="617400" cy="43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c000"/>
                </a:solidFill>
                <a:uFillTx/>
                <a:latin typeface="Times New Roman"/>
              </a:rPr>
              <a:t>1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6" name="文本框 5"/>
          <p:cNvSpPr/>
          <p:nvPr/>
        </p:nvSpPr>
        <p:spPr>
          <a:xfrm>
            <a:off x="5473800" y="1614600"/>
            <a:ext cx="267336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Times New Roman"/>
              </a:rPr>
              <a:t>申报部门负责人汇报项目情况，</a:t>
            </a:r>
            <a:r>
              <a:rPr b="0" lang="da-DK" sz="1100" spc="-1" strike="noStrike">
                <a:solidFill>
                  <a:srgbClr val="000000"/>
                </a:solidFill>
                <a:latin typeface="Times New Roman"/>
              </a:rPr>
              <a:t>PPT</a:t>
            </a:r>
            <a:r>
              <a:rPr b="0" lang="da-DK" sz="1100" spc="-1" strike="noStrike">
                <a:solidFill>
                  <a:srgbClr val="000000"/>
                </a:solidFill>
                <a:latin typeface="Times New Roman"/>
              </a:rPr>
              <a:t>演示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7" name="文本框 6"/>
          <p:cNvSpPr/>
          <p:nvPr/>
        </p:nvSpPr>
        <p:spPr>
          <a:xfrm>
            <a:off x="4908600" y="1521000"/>
            <a:ext cx="617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2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8" name="文本框 44"/>
          <p:cNvSpPr/>
          <p:nvPr/>
        </p:nvSpPr>
        <p:spPr>
          <a:xfrm>
            <a:off x="5473800" y="2021040"/>
            <a:ext cx="26733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评审专家提问，申报部门答疑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9" name="文本框 45"/>
          <p:cNvSpPr/>
          <p:nvPr/>
        </p:nvSpPr>
        <p:spPr>
          <a:xfrm>
            <a:off x="4908600" y="1928880"/>
            <a:ext cx="617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00000"/>
                </a:solidFill>
                <a:uFillTx/>
                <a:latin typeface="Times New Roman"/>
              </a:rPr>
              <a:t>3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0" name="文本框 46"/>
          <p:cNvSpPr/>
          <p:nvPr/>
        </p:nvSpPr>
        <p:spPr>
          <a:xfrm>
            <a:off x="5473800" y="2387520"/>
            <a:ext cx="2673360" cy="3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评审专家评议打分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1" name="文本框 47"/>
          <p:cNvSpPr/>
          <p:nvPr/>
        </p:nvSpPr>
        <p:spPr>
          <a:xfrm>
            <a:off x="4908600" y="2333520"/>
            <a:ext cx="617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c000"/>
                </a:solidFill>
                <a:uFillTx/>
                <a:latin typeface="Times New Roman"/>
              </a:rPr>
              <a:t>4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2" name="文本框 48"/>
          <p:cNvSpPr/>
          <p:nvPr/>
        </p:nvSpPr>
        <p:spPr>
          <a:xfrm>
            <a:off x="5473800" y="2803680"/>
            <a:ext cx="267336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100" spc="-1" strike="noStrike">
                <a:solidFill>
                  <a:srgbClr val="000000"/>
                </a:solidFill>
                <a:latin typeface="Times New Roman"/>
              </a:rPr>
              <a:t>汇总项目评分情况，形成专家评审意见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3" name="文本框 49"/>
          <p:cNvSpPr/>
          <p:nvPr/>
        </p:nvSpPr>
        <p:spPr>
          <a:xfrm>
            <a:off x="4908600" y="2739960"/>
            <a:ext cx="617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5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4" name="文本框 50"/>
          <p:cNvSpPr/>
          <p:nvPr/>
        </p:nvSpPr>
        <p:spPr>
          <a:xfrm>
            <a:off x="5473800" y="3206880"/>
            <a:ext cx="167328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评审专家签字确认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5" name="文本框 51"/>
          <p:cNvSpPr/>
          <p:nvPr/>
        </p:nvSpPr>
        <p:spPr>
          <a:xfrm>
            <a:off x="4908600" y="3143160"/>
            <a:ext cx="617400" cy="4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00000"/>
                </a:solidFill>
                <a:uFillTx/>
                <a:latin typeface="Times New Roman"/>
              </a:rPr>
              <a:t>6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6" name="文本框 64"/>
          <p:cNvSpPr/>
          <p:nvPr/>
        </p:nvSpPr>
        <p:spPr>
          <a:xfrm>
            <a:off x="585720" y="3567240"/>
            <a:ext cx="609840" cy="42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c00000"/>
                </a:solidFill>
                <a:uFillTx/>
                <a:latin typeface="Times New Roman"/>
              </a:rPr>
              <a:t>7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7" name="文本框 65"/>
          <p:cNvSpPr/>
          <p:nvPr/>
        </p:nvSpPr>
        <p:spPr>
          <a:xfrm>
            <a:off x="585720" y="3990960"/>
            <a:ext cx="609840" cy="42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0000"/>
                </a:solidFill>
                <a:uFillTx/>
                <a:latin typeface="Times New Roman"/>
              </a:rPr>
              <a:t>8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8" name="文本框 66"/>
          <p:cNvSpPr/>
          <p:nvPr/>
        </p:nvSpPr>
        <p:spPr>
          <a:xfrm>
            <a:off x="1143000" y="3670200"/>
            <a:ext cx="170820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项目入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9" name="文本框 67"/>
          <p:cNvSpPr/>
          <p:nvPr/>
        </p:nvSpPr>
        <p:spPr>
          <a:xfrm>
            <a:off x="1195560" y="4092480"/>
            <a:ext cx="1655640" cy="2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反馈结果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0" name="文本框 71"/>
          <p:cNvSpPr/>
          <p:nvPr/>
        </p:nvSpPr>
        <p:spPr>
          <a:xfrm>
            <a:off x="4908600" y="3649680"/>
            <a:ext cx="61740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 u="sng">
                <a:solidFill>
                  <a:srgbClr val="ffc000"/>
                </a:solidFill>
                <a:uFillTx/>
                <a:latin typeface="Times New Roman"/>
              </a:rPr>
              <a:t>7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1" name="文本框 72"/>
          <p:cNvSpPr/>
          <p:nvPr/>
        </p:nvSpPr>
        <p:spPr>
          <a:xfrm>
            <a:off x="5473800" y="3720960"/>
            <a:ext cx="1681200" cy="28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a-DK" sz="1200" spc="-1" strike="noStrike">
                <a:solidFill>
                  <a:srgbClr val="000000"/>
                </a:solidFill>
                <a:latin typeface="Times New Roman"/>
              </a:rPr>
              <a:t>反馈意见或建议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2" name="直接连接符 73"/>
          <p:cNvSpPr/>
          <p:nvPr/>
        </p:nvSpPr>
        <p:spPr>
          <a:xfrm>
            <a:off x="4344840" y="627120"/>
            <a:ext cx="11160" cy="38163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3" name="文本框 74"/>
          <p:cNvSpPr/>
          <p:nvPr/>
        </p:nvSpPr>
        <p:spPr>
          <a:xfrm>
            <a:off x="5443560" y="858960"/>
            <a:ext cx="19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0000"/>
                </a:solidFill>
                <a:latin typeface="Times New Roman"/>
              </a:rPr>
              <a:t>评审会工作子流程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44" name="圆角矩形 30" descr=""/>
          <p:cNvPicPr/>
          <p:nvPr/>
        </p:nvPicPr>
        <p:blipFill>
          <a:blip r:embed="rId4"/>
          <a:stretch/>
        </p:blipFill>
        <p:spPr>
          <a:xfrm>
            <a:off x="2779560" y="57240"/>
            <a:ext cx="3583080" cy="49536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0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1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900"/>
                            </p:stCondLst>
                            <p:childTnLst>
                              <p:par>
                                <p:cTn id="25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7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0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1400"/>
                            </p:stCondLst>
                            <p:childTnLst>
                              <p:par>
                                <p:cTn id="26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4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7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900"/>
                            </p:stCondLst>
                            <p:childTnLst>
                              <p:par>
                                <p:cTn id="26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1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4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2400"/>
                            </p:stCondLst>
                            <p:childTnLst>
                              <p:par>
                                <p:cTn id="27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8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1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900"/>
                            </p:stCondLst>
                            <p:childTnLst>
                              <p:par>
                                <p:cTn id="283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5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1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3400"/>
                            </p:stCondLst>
                            <p:childTnLst>
                              <p:par>
                                <p:cTn id="2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2" dur="500"/>
                                        <p:tgtEl>
                                          <p:spTgt spid="1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5" dur="500"/>
                                        <p:tgtEl>
                                          <p:spTgt spid="1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3900"/>
                            </p:stCondLst>
                            <p:childTnLst>
                              <p:par>
                                <p:cTn id="297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99" dur="500"/>
                                        <p:tgtEl>
                                          <p:spTgt spid="1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2" dur="500"/>
                                        <p:tgtEl>
                                          <p:spTgt spid="1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4400"/>
                            </p:stCondLst>
                            <p:childTnLst>
                              <p:par>
                                <p:cTn id="30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6" dur="500"/>
                                        <p:tgtEl>
                                          <p:spTgt spid="1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09" dur="500"/>
                                        <p:tgtEl>
                                          <p:spTgt spid="1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fill="hold">
                            <p:stCondLst>
                              <p:cond delay="49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fill="hold">
                            <p:stCondLst>
                              <p:cond delay="5400"/>
                            </p:stCondLst>
                            <p:childTnLst>
                              <p:par>
                                <p:cTn id="3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5900"/>
                            </p:stCondLst>
                            <p:childTnLst>
                              <p:par>
                                <p:cTn id="3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6400"/>
                            </p:stCondLst>
                            <p:childTnLst>
                              <p:par>
                                <p:cTn id="33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6900"/>
                            </p:stCondLst>
                            <p:childTnLst>
                              <p:par>
                                <p:cTn id="3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5" fill="hold">
                            <p:stCondLst>
                              <p:cond delay="7400"/>
                            </p:stCondLst>
                            <p:childTnLst>
                              <p:par>
                                <p:cTn id="35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7900"/>
                            </p:stCondLst>
                            <p:childTnLst>
                              <p:par>
                                <p:cTn id="36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7-22T06:56:00Z</dcterms:created>
  <dc:creator>ample</dc:creator>
  <dc:description/>
  <cp:keywords/>
  <dc:language>en-US</dc:language>
  <cp:lastModifiedBy>梅奕</cp:lastModifiedBy>
  <dcterms:modified xsi:type="dcterms:W3CDTF">2017-03-24T05:38:18Z</dcterms:modified>
  <cp:revision>109</cp:revision>
  <dc:subject/>
  <dc:title>信息技术与公安工作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260</vt:lpwstr>
  </property>
</Properties>
</file>